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EF5F-10EE-4B36-B7A4-CA9B39D3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organization that came up with IEEE 802.3 Ethern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responsible for success of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4A3-E76F-40FE-A12F-D8FE6E16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39A-6277-4932-838D-65A4EA8B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8AC-DE27-42AE-9A21-D74313CC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BD0-CD8C-4DDF-A146-39B07D1B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801C-7252-40FC-A604-9153154A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11C9-0D34-451C-8E8B-B4F55FDB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9C6F-9E45-4C07-A845-1D0E3416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3EA0-E9B7-4072-9B6A-47940E97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788B-92DA-4546-B101-2BF08424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6A2B-8081-47A4-8F9B-2EF8B48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0AB2-5575-4475-9A6C-65C8D439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C38-7BE1-462E-8E8F-10683252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F318-4682-43A1-9286-353FAA96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41EF-28F7-46FB-9D78-812BB78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C62F-11FC-4960-A14C-F9F56D5E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54B1-1AD9-46FB-878C-AC3AAC51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6F6B-4EA6-4858-87D2-FE1C4CD2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4F41-9783-4BDF-83A7-9FF97715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F05-AE2D-48FF-B5B6-061F72A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FB3-E88B-4A15-9E0D-CC57CC3B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1E3-B15C-469B-8373-7DA2F4FA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FAC-F68C-4D6E-A31D-3885A21D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8AB-1CA8-499D-9E37-5E5FCA4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129F-B33C-42FD-84ED-70E69EE7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9722-15AA-4C7F-A042-B5E1CF3EC6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C7A0-DBBE-4D08-A3AF-D8ED0F8A47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rgen@eecs.berkeley.edu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133360"/>
            <a:ext cx="7543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1 Overview</a:t>
            </a:r>
            <a:br>
              <a:rPr sz="3900"/>
            </a:br>
            <a:br>
              <a:rPr sz="39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Mustafa Ergen</a:t>
            </a:r>
            <a:br>
              <a:rPr sz="2800"/>
            </a:b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ergen@eecs.berkeley.edu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UC Berkeley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CF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" y="1716120"/>
            <a:ext cx="8610480" cy="42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CF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760040"/>
            <a:ext cx="838188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l – eliminates conten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 – Point Coordina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ling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D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P – Contention Free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with D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odic Beacon – contains length of CF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-Poll – Contention Free P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V prevents during CF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-End – resets NA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19720" y="122040"/>
            <a:ext cx="35812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ame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3733920"/>
            <a:ext cx="1904760" cy="28540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Type and Sub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DS and From 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Frag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2590920"/>
            <a:ext cx="914400" cy="5331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440" y="3124080"/>
            <a:ext cx="86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-23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914400"/>
            <a:ext cx="1905120" cy="1066680"/>
          </a:xfrm>
          <a:prstGeom prst="rect">
            <a:avLst/>
          </a:prstGeom>
          <a:solidFill>
            <a:srgbClr val="c8f6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Id for PS-Po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5029200"/>
            <a:ext cx="1904760" cy="16002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SID –BSS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 - Transmit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 - Recei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 - 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 - Dest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733920"/>
            <a:ext cx="1904760" cy="121896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48 bi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/Gro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al/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6 bit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3733920"/>
            <a:ext cx="1905120" cy="1371600"/>
          </a:xfrm>
          <a:prstGeom prst="rect">
            <a:avLst/>
          </a:prstGeom>
          <a:solidFill>
            <a:srgbClr val="f2d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3733920"/>
            <a:ext cx="1905120" cy="137160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CIT CRC-32 Polynom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31240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447920" y="19810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31240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2000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962520" y="3124080"/>
            <a:ext cx="3045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190760" y="312408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371600"/>
            <a:ext cx="1905120" cy="914400"/>
          </a:xfrm>
          <a:prstGeom prst="rect">
            <a:avLst/>
          </a:prstGeom>
          <a:solidFill>
            <a:srgbClr val="eae7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per lay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48 byte 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6 upper layer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93432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ame Sub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3124080"/>
            <a:ext cx="2590920" cy="3159360"/>
          </a:xfrm>
          <a:prstGeom prst="rect">
            <a:avLst/>
          </a:prstGeom>
          <a:solidFill>
            <a:srgbClr val="eae77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S-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End &amp; CF-End 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3124080"/>
            <a:ext cx="2590920" cy="315936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+CF-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+CF-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+CF-ACK+CF-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l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ACK (no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Poll (no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-ACK+CF+P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38680" y="3124080"/>
            <a:ext cx="3353040" cy="3159360"/>
          </a:xfrm>
          <a:prstGeom prst="rect">
            <a:avLst/>
          </a:prstGeom>
          <a:solidFill>
            <a:srgbClr val="f2d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 Request &amp;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uthent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 Request &amp;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sociation Request &amp;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uncement Traffic Indication Message (ATI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2666880"/>
            <a:ext cx="266688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2666880"/>
            <a:ext cx="251460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666880"/>
            <a:ext cx="3200400" cy="36828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ther MAC Oper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40280" cy="2395800"/>
          </a:xfrm>
          <a:prstGeom prst="rect">
            <a:avLst/>
          </a:prstGeom>
          <a:solidFill>
            <a:srgbClr val="c8f6f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control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 is updated by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4114800"/>
            <a:ext cx="4040280" cy="2395440"/>
          </a:xfrm>
          <a:prstGeom prst="rect">
            <a:avLst/>
          </a:prstGeom>
          <a:solidFill>
            <a:srgbClr val="f2d2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P bit set when encry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frame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is 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V is updated by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variabl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24280" y="1523880"/>
            <a:ext cx="4267440" cy="50292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P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mech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fault key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mapp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P header and tra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ID in head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CV in trail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t11Undecryptable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dicates an attac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ot11ICVError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ttack to  determine a key is in progr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nce by users  that have no concept of data communication. Ex: Microwa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ference by other W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of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uthent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identity to another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ystem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key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sen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responds with a tex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encrypt and send ba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decrypts and returns an authentication management fra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authenticate any number of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1828800"/>
            <a:ext cx="4040280" cy="44118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y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ogue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SID of ES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 its presence with beaco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active rogue reach higher layer data if unencrypt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ssoci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parent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authent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on request to an 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established, forwar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SS, if DA is in the B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S, if DA is outside the B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AP, if DA is in another B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, if DC is outside the 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3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t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transfer point : track mobil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P, bridge, or router) transfer 802.1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AP after reassociation, communicates with the old 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dress Filt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than one W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eiver examine the DA,  BSS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3657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vacy MAC Fun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5029200"/>
            <a:ext cx="4039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P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410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ependent B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frame handsh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ke up every beac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wake a period of ATIM after each beac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 ACK if receive ATIM frame &amp; awake until the end of next AT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e the power saving station, and delay until the next  AT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cast frame  : No ACK :  opt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91320" y="2133720"/>
            <a:ext cx="3200400" cy="3886200"/>
          </a:xfrm>
          <a:prstGeom prst="rect">
            <a:avLst/>
          </a:prstGeom>
          <a:solidFill>
            <a:srgbClr val="f1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ment 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ff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wer consumption in ATI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wake for every Beacon and ATI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ireless Market Seg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-36000" bIns="-360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20720" y="1306440"/>
          <a:ext cx="7648560" cy="515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306440"/>
                    <a:ext cx="764856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wer Managemen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952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rastructure B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ized in the 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ater power sa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Station sleeps for a number of beacon peri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wake for multicast indicated in DTIM in Beac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buffer, indicate in T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bile requests by PS-P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ynchronization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Synchronization in an Infrastructur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con contains T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updates its with the TSF in bea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r Synchronization in an I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.  Starter of the BSS send TSF zero and inc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ion sends a 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on updates if the TSF is big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number of stations: the fastest timer va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number of stations: slower timer value due to coll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 with Frequency Hopping PHY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a frequency hopping PHY layer occurs periodically (the dwell merio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o new channel when the TSF timer value, modulo the dwell period, is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canning &amp; Join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534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ive Scanning  : only listens for Beacon and get info of the BSS.  Power is sa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Scanning: transmit and elicit response from APs. If IBSS, last station that transmitted beacon responds. Time is sav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oining a B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ncronization in TSF and frequency : Adopt PHY parameters : The BSSID : WEP : Beacon Period : DT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500" spc="-1" strike="noStrike">
                <a:solidFill>
                  <a:srgbClr val="330066"/>
                </a:solidFill>
                <a:latin typeface="Arial"/>
              </a:rPr>
              <a:t>Comb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ing Management Too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bine Power Saving Periods with Sc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ead of entering power saving mode, perform active sc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 information about its environ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s and initiate an authent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s the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Physical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LCP:  frame exchange between the MAC and PH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MD:   uses signal carrier and spread spectrum modulation to transmit data frames over the med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equence Spread Spectrum (DSSS)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4 GHz : RF : 1 – 2 M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Hopping Spread Spectrum (FHSS)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10KHz deviation : RF : PMD controls channel hopping : 2 M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red (IR)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oor : IR : 1 and 2 M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FDM PHY – IEEE 802.1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.0 GHz : 6-54 Mbps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ate DSSS PHY – IEEE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.4 GHz : 5.5 Mbps – 11 Mbps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DCF - Enhanced DC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F - Hybrid Coordinatio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B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 – Hybrid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C – Traffic Cate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XOP – Transmission Opportun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nted by EDCF-TXOP or HC- poll TXO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FS – Arbitration Interframe Spa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E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E Backoff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17640" y="1719360"/>
            <a:ext cx="730728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EEE 802.11 Protocol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 Standard : 8 channels : 54 Mbps : Products are avail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 Standard : 3 channels : 11 Mbps : Products are availab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C Standard : operate in variable power levels : ongo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C Standard : QoS support : Second half of 2002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ter-Access Point Protocol :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 Standard: 3 channels :  OFDM and PBCC  :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lementary MAC Standard: TPC and DFS : 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lementary MAC Standard: Alternative WEP :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half 2002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PPENDIX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andardization of Wireless Networ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reless networks are standardized by IE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der 802 LAN MAN standards committe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80880" y="2819520"/>
            <a:ext cx="3673440" cy="3886200"/>
            <a:chOff x="380880" y="2819520"/>
            <a:chExt cx="3673440" cy="3886200"/>
          </a:xfrm>
        </p:grpSpPr>
        <p:sp>
          <p:nvSpPr>
            <p:cNvPr id="163" name=""/>
            <p:cNvSpPr/>
            <p:nvPr/>
          </p:nvSpPr>
          <p:spPr>
            <a:xfrm>
              <a:off x="1844640" y="2819520"/>
              <a:ext cx="2209680" cy="38862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48840" y="289584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44640" y="33530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44640" y="38102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8840" y="3353040"/>
              <a:ext cx="16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55200" y="381024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05080" y="426744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79960" y="47246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02200" y="5334120"/>
              <a:ext cx="140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Data Lin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81400" y="6096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44640" y="42674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44640" y="4724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44640" y="51818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4640" y="586764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3546720"/>
              <a:ext cx="1046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-lay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14800" y="3886200"/>
            <a:ext cx="4578120" cy="2743200"/>
            <a:chOff x="4114800" y="3886200"/>
            <a:chExt cx="4578120" cy="2743200"/>
          </a:xfrm>
        </p:grpSpPr>
        <p:sp>
          <p:nvSpPr>
            <p:cNvPr id="179" name=""/>
            <p:cNvSpPr/>
            <p:nvPr/>
          </p:nvSpPr>
          <p:spPr>
            <a:xfrm>
              <a:off x="5562720" y="4724280"/>
              <a:ext cx="3047760" cy="190512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52578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12840" y="48006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Logical Link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63080" y="5334120"/>
              <a:ext cx="312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Medium Access (MA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6440" y="6019920"/>
              <a:ext cx="210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Times New Roman"/>
                </a:rPr>
                <a:t>Physical (PHY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2720" y="58672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4800" y="5181480"/>
              <a:ext cx="380880" cy="14479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81480" y="4724280"/>
              <a:ext cx="304920" cy="19051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5486400"/>
              <a:ext cx="609480" cy="485640"/>
            </a:xfrm>
            <a:prstGeom prst="leftRightArrow">
              <a:avLst>
                <a:gd name="adj1" fmla="val 50000"/>
                <a:gd name="adj2" fmla="val 24984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5560" y="3886200"/>
              <a:ext cx="137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EEE 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ndar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Basics of WLA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567036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LAN Pending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6248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Why 802.11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Greater bandwidth (54M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Less potential interference (5GHz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More non-overlapping chann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Why 802.11b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Widely avail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Greater range, lower power nee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Why 802.11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8080"/>
                </a:solidFill>
                <a:latin typeface="Arial"/>
              </a:rPr>
              <a:t>Faster than 802.11b (24Mb vs 11M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483160" cy="10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a00b4"/>
                </a:solidFill>
                <a:latin typeface="Arial"/>
              </a:rPr>
              <a:t>Deployment Issues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e-purpose Symbol AP’s for secure admi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ploy 802.11b with 802.11a in mind  (25db SNR for all service ar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Delay migration to 802.11a until dual function (11b &amp; 11a) cards becom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Bands- 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ISM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0152800">
            <a:off x="5773680" y="3255480"/>
            <a:ext cx="2109960" cy="1922760"/>
          </a:xfrm>
          <a:prstGeom prst="rtTriangl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809880"/>
            <a:ext cx="1766880" cy="2148120"/>
          </a:xfrm>
          <a:custGeom>
            <a:avLst/>
            <a:gdLst/>
            <a:ahLst/>
            <a:rect l="l" t="t" r="r" b="b"/>
            <a:pathLst>
              <a:path w="1113" h="1353">
                <a:moveTo>
                  <a:pt x="1112" y="0"/>
                </a:moveTo>
                <a:lnTo>
                  <a:pt x="0" y="472"/>
                </a:lnTo>
                <a:lnTo>
                  <a:pt x="8" y="1352"/>
                </a:lnTo>
                <a:lnTo>
                  <a:pt x="1112" y="0"/>
                </a:lnTo>
              </a:path>
            </a:pathLst>
          </a:custGeom>
          <a:gradFill rotWithShape="0">
            <a:gsLst>
              <a:gs pos="0">
                <a:srgbClr val="7099fc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79400" y="3787920"/>
            <a:ext cx="4165560" cy="763560"/>
          </a:xfrm>
          <a:custGeom>
            <a:avLst/>
            <a:gdLst/>
            <a:ahLst/>
            <a:rect l="l" t="t" r="r" b="b"/>
            <a:pathLst>
              <a:path w="2624" h="481">
                <a:moveTo>
                  <a:pt x="2623" y="0"/>
                </a:moveTo>
                <a:lnTo>
                  <a:pt x="0" y="480"/>
                </a:lnTo>
                <a:lnTo>
                  <a:pt x="1519" y="480"/>
                </a:lnTo>
                <a:lnTo>
                  <a:pt x="2623" y="0"/>
                </a:lnTo>
              </a:path>
            </a:pathLst>
          </a:custGeom>
          <a:gradFill rotWithShape="0">
            <a:gsLst>
              <a:gs pos="0">
                <a:srgbClr val="afc6fd"/>
              </a:gs>
              <a:gs pos="100000">
                <a:srgbClr val="618f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610080" y="3809880"/>
            <a:ext cx="2209680" cy="762120"/>
          </a:xfrm>
          <a:custGeom>
            <a:avLst/>
            <a:gdLst/>
            <a:ahLst/>
            <a:rect l="l" t="t" r="r" b="b"/>
            <a:pathLst>
              <a:path w="3273" h="485">
                <a:moveTo>
                  <a:pt x="0" y="484"/>
                </a:moveTo>
                <a:lnTo>
                  <a:pt x="1005" y="0"/>
                </a:lnTo>
                <a:lnTo>
                  <a:pt x="3272" y="469"/>
                </a:lnTo>
                <a:lnTo>
                  <a:pt x="0" y="484"/>
                </a:lnTo>
              </a:path>
            </a:pathLst>
          </a:custGeom>
          <a:gradFill rotWithShape="0">
            <a:gsLst>
              <a:gs pos="0">
                <a:srgbClr val="96e965"/>
              </a:gs>
              <a:gs pos="100000">
                <a:srgbClr val="51d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92000" y="4562640"/>
            <a:ext cx="2386080" cy="1355400"/>
          </a:xfrm>
          <a:prstGeom prst="rect">
            <a:avLst/>
          </a:prstGeom>
          <a:solidFill>
            <a:srgbClr val="618f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639960" y="4562640"/>
            <a:ext cx="2179800" cy="1355400"/>
          </a:xfrm>
          <a:prstGeom prst="rect">
            <a:avLst/>
          </a:prstGeom>
          <a:solidFill>
            <a:srgbClr val="51d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57400" y="2901960"/>
            <a:ext cx="7207200" cy="87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6104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2104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336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48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7496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30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4712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5120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6240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4848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78560" y="2889360"/>
            <a:ext cx="0" cy="898560"/>
          </a:xfrm>
          <a:prstGeom prst="line">
            <a:avLst/>
          </a:prstGeom>
          <a:ln w="255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75320" y="3102120"/>
            <a:ext cx="103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Extreme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67400" y="3102120"/>
            <a:ext cx="572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1560" y="3102120"/>
            <a:ext cx="54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92680" y="3102120"/>
            <a:ext cx="857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18800" y="3102120"/>
            <a:ext cx="57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56920" y="3102120"/>
            <a:ext cx="579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88200" y="3102120"/>
            <a:ext cx="591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Ul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24960" y="3102120"/>
            <a:ext cx="689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Su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06000" y="3102120"/>
            <a:ext cx="84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Infr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09440" y="3102120"/>
            <a:ext cx="761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i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048440" y="3102120"/>
            <a:ext cx="651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Ultr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vio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637760" y="3102120"/>
            <a:ext cx="788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0066"/>
                </a:solidFill>
                <a:latin typeface="Arial"/>
              </a:rPr>
              <a:t>X-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8720" y="2341440"/>
            <a:ext cx="687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88400" y="2133720"/>
            <a:ext cx="138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4880" y="1927080"/>
            <a:ext cx="1708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 Wave 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16680" y="192708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M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4560" y="2133720"/>
            <a:ext cx="1056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39520" y="2065320"/>
            <a:ext cx="2019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red wireless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9120" y="4653000"/>
            <a:ext cx="2387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2 - 928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728720" y="2681280"/>
            <a:ext cx="1023840" cy="208080"/>
            <a:chOff x="1728720" y="2681280"/>
            <a:chExt cx="1023840" cy="208080"/>
          </a:xfrm>
        </p:grpSpPr>
        <p:sp>
          <p:nvSpPr>
            <p:cNvPr id="323" name=""/>
            <p:cNvSpPr/>
            <p:nvPr/>
          </p:nvSpPr>
          <p:spPr>
            <a:xfrm>
              <a:off x="1728720" y="2681280"/>
              <a:ext cx="102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872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256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 flipV="1">
            <a:off x="3774960" y="2404800"/>
            <a:ext cx="0" cy="48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994200" y="2198160"/>
            <a:ext cx="0" cy="69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432320" y="2198160"/>
            <a:ext cx="0" cy="69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8480" y="2681280"/>
            <a:ext cx="218880" cy="208080"/>
            <a:chOff x="4578480" y="2681280"/>
            <a:chExt cx="218880" cy="208080"/>
          </a:xfrm>
        </p:grpSpPr>
        <p:sp>
          <p:nvSpPr>
            <p:cNvPr id="330" name=""/>
            <p:cNvSpPr/>
            <p:nvPr/>
          </p:nvSpPr>
          <p:spPr>
            <a:xfrm>
              <a:off x="4578480" y="2681280"/>
              <a:ext cx="21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848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97360" y="2681280"/>
              <a:ext cx="0" cy="20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651200" y="2405160"/>
            <a:ext cx="0" cy="27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05480" y="2335320"/>
            <a:ext cx="0" cy="55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43520" y="2611440"/>
            <a:ext cx="0" cy="27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657320" y="2341440"/>
            <a:ext cx="167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llular (840M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57640" y="2819520"/>
            <a:ext cx="0" cy="69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02840" y="2514600"/>
            <a:ext cx="1452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PCS (1.9G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21240" y="4653000"/>
            <a:ext cx="189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 - 2.483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3.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EEE 802.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4648320"/>
            <a:ext cx="2179440" cy="13557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133960" y="2895480"/>
            <a:ext cx="0" cy="990720"/>
          </a:xfrm>
          <a:prstGeom prst="line">
            <a:avLst/>
          </a:prstGeom>
          <a:ln w="7632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29040" y="2895480"/>
            <a:ext cx="0" cy="914400"/>
          </a:xfrm>
          <a:prstGeom prst="line">
            <a:avLst/>
          </a:prstGeom>
          <a:ln w="7632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48360" y="4724280"/>
            <a:ext cx="18939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EEE 802.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perLA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38880" y="289548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strial, Scientific, and Medical (ISM) ba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icensed, 22 MHz channel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1i  Enhanced Secur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" y="685800"/>
          <a:ext cx="7467480" cy="5899320"/>
        </p:xfrm>
        <a:graphic>
          <a:graphicData uri="http://schemas.openxmlformats.org/drawingml/2006/table">
            <a:tbl>
              <a:tblPr/>
              <a:tblGrid>
                <a:gridCol w="1780920"/>
                <a:gridCol w="568656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ments to the 802.11 MAC standard to increase the security; addresses new encryption methods and upper layer authent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weakness of WEP encryption is damaging the 802.11 standard perception in the marke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standa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pplies to 802.11b, 802.11a and 802.11g systems.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.1x is key reference for </a:t>
                      </a:r>
                      <a:r>
                        <a:rPr b="0" lang="nl-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layer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enticatio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+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m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d encryption software will replace WEP software; This is on a recommended best practice /voluntary basis; development in TgI: first draft Mar 2001; next draft due Mar 2002; stable draft: July 2002; final standard: Jan 20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affect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and AP cards (Controller chip, Firmware, Driver)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 kernel, RG kernel, BG ker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’s 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ly proposing WEP improvement methods</a:t>
                      </a:r>
                      <a:r>
                        <a:rPr b="0" lang="nl-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ng in all official/interim meeting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lay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/Microsoft/Agere/Cisco/Atheros/Intel/3Com/Intersil/Symbol/Certicom/RSA/Fun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ssu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 of AES to use for encryption (CTR/CBC [CBC MIC] or OCB [MIC and Encryption function]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</a:t>
            </a: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X - Port Based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" y="1523880"/>
          <a:ext cx="8305920" cy="4751640"/>
        </p:xfrm>
        <a:graphic>
          <a:graphicData uri="http://schemas.openxmlformats.org/drawingml/2006/table">
            <a:tbl>
              <a:tblPr/>
              <a:tblGrid>
                <a:gridCol w="1981080"/>
                <a:gridCol w="6324840"/>
              </a:tblGrid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ramework for regulating access control of client stations to a network via the use of extensible authentication 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: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a key part of the important 802.11i proposals for enhance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pplies to 802.11b, 802.11a and 802.11g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available – Spring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aff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ed in AP-2000, AP-1000/500, Clients (MS drivers for XP/2000 be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’s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 EAP auth types to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/Cisco/Certicom/RSA/Fu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in IETF for EAP method discu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</a:t>
            </a: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raffic Clas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28600" y="1752480"/>
          <a:ext cx="8305920" cy="4659480"/>
        </p:xfrm>
        <a:graphic>
          <a:graphicData uri="http://schemas.openxmlformats.org/drawingml/2006/table">
            <a:tbl>
              <a:tblPr/>
              <a:tblGrid>
                <a:gridCol w="1981440"/>
                <a:gridCol w="6324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802.1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 Class and Dynamic Multicast Filte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ethod to differentiate traffic streams in priotity classes in support of quality of service offe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a key part of the 802.11e proposals for QoS at the MAC 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ed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pplies to 802.11b, 802.11a and 802.11g systems; i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an addition to the 802.1d Bridge standard (annex H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d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standard; incorporated in 1998 edition of 802.1d (annex 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s aff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 and AP cards (Driver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AP kernel, RG kernel, BG ker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re’s 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ng implementation 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play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09720"/>
                          <a:tab algn="l" pos="1819440"/>
                          <a:tab algn="l" pos="2728800"/>
                          <a:tab algn="l" pos="3638520"/>
                          <a:tab algn="l" pos="4548240"/>
                          <a:tab algn="l" pos="5457960"/>
                          <a:tab algn="l" pos="6367320"/>
                          <a:tab algn="l" pos="7277040"/>
                          <a:tab algn="l" pos="8186760"/>
                          <a:tab algn="l" pos="9096480"/>
                          <a:tab algn="l" pos="10005840"/>
                          <a:tab algn="l" pos="1091556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ssary of 802.11 Wireless Terms,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SID &amp; ESSID:  Data fields identifying a stations BSS &amp; 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Channel Assessment (CCA): A station function used to determine when it is OK to transm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:  A function that maps a station to an Access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Service Data Unit (MSDU):  Data Frame passed between user &amp;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Protocol Data Unit (MPDU):  Data Frame passed between MAC &amp;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P Packet (PLCP_PDU):  Data Packet passed from PHY to PHY over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571680" y="1790640"/>
            <a:ext cx="7640280" cy="2421000"/>
          </a:xfrm>
          <a:custGeom>
            <a:avLst/>
            <a:gdLst/>
            <a:ahLst/>
            <a:rect l="l" t="t" r="r" b="b"/>
            <a:pathLst>
              <a:path w="4813" h="1525">
                <a:moveTo>
                  <a:pt x="2424" y="264"/>
                </a:moveTo>
                <a:lnTo>
                  <a:pt x="2364" y="264"/>
                </a:lnTo>
                <a:lnTo>
                  <a:pt x="2328" y="288"/>
                </a:lnTo>
                <a:lnTo>
                  <a:pt x="2292" y="324"/>
                </a:lnTo>
                <a:lnTo>
                  <a:pt x="2244" y="372"/>
                </a:lnTo>
                <a:lnTo>
                  <a:pt x="2220" y="408"/>
                </a:lnTo>
                <a:lnTo>
                  <a:pt x="2208" y="444"/>
                </a:lnTo>
                <a:lnTo>
                  <a:pt x="2196" y="480"/>
                </a:lnTo>
                <a:lnTo>
                  <a:pt x="2196" y="516"/>
                </a:lnTo>
                <a:lnTo>
                  <a:pt x="2184" y="552"/>
                </a:lnTo>
                <a:lnTo>
                  <a:pt x="2184" y="600"/>
                </a:lnTo>
                <a:lnTo>
                  <a:pt x="2184" y="660"/>
                </a:lnTo>
                <a:lnTo>
                  <a:pt x="2196" y="696"/>
                </a:lnTo>
                <a:lnTo>
                  <a:pt x="2220" y="744"/>
                </a:lnTo>
                <a:lnTo>
                  <a:pt x="2232" y="804"/>
                </a:lnTo>
                <a:lnTo>
                  <a:pt x="2232" y="840"/>
                </a:lnTo>
                <a:lnTo>
                  <a:pt x="2256" y="876"/>
                </a:lnTo>
                <a:lnTo>
                  <a:pt x="2268" y="912"/>
                </a:lnTo>
                <a:lnTo>
                  <a:pt x="2268" y="948"/>
                </a:lnTo>
                <a:lnTo>
                  <a:pt x="2280" y="984"/>
                </a:lnTo>
                <a:lnTo>
                  <a:pt x="2280" y="1020"/>
                </a:lnTo>
                <a:lnTo>
                  <a:pt x="2280" y="1068"/>
                </a:lnTo>
                <a:lnTo>
                  <a:pt x="2256" y="1104"/>
                </a:lnTo>
                <a:lnTo>
                  <a:pt x="2208" y="1152"/>
                </a:lnTo>
                <a:lnTo>
                  <a:pt x="2172" y="1176"/>
                </a:lnTo>
                <a:lnTo>
                  <a:pt x="2136" y="1200"/>
                </a:lnTo>
                <a:lnTo>
                  <a:pt x="2088" y="1200"/>
                </a:lnTo>
                <a:lnTo>
                  <a:pt x="2052" y="1200"/>
                </a:lnTo>
                <a:lnTo>
                  <a:pt x="2016" y="1200"/>
                </a:lnTo>
                <a:lnTo>
                  <a:pt x="1968" y="1212"/>
                </a:lnTo>
                <a:lnTo>
                  <a:pt x="1932" y="1212"/>
                </a:lnTo>
                <a:lnTo>
                  <a:pt x="1872" y="1224"/>
                </a:lnTo>
                <a:lnTo>
                  <a:pt x="1812" y="1224"/>
                </a:lnTo>
                <a:lnTo>
                  <a:pt x="1764" y="1224"/>
                </a:lnTo>
                <a:lnTo>
                  <a:pt x="1704" y="1224"/>
                </a:lnTo>
                <a:lnTo>
                  <a:pt x="1656" y="1224"/>
                </a:lnTo>
                <a:lnTo>
                  <a:pt x="1608" y="1224"/>
                </a:lnTo>
                <a:lnTo>
                  <a:pt x="1548" y="1224"/>
                </a:lnTo>
                <a:lnTo>
                  <a:pt x="1500" y="1224"/>
                </a:lnTo>
                <a:lnTo>
                  <a:pt x="1440" y="1224"/>
                </a:lnTo>
                <a:lnTo>
                  <a:pt x="1392" y="1224"/>
                </a:lnTo>
                <a:lnTo>
                  <a:pt x="1320" y="1224"/>
                </a:lnTo>
                <a:lnTo>
                  <a:pt x="1272" y="1236"/>
                </a:lnTo>
                <a:lnTo>
                  <a:pt x="1224" y="1236"/>
                </a:lnTo>
                <a:lnTo>
                  <a:pt x="1176" y="1236"/>
                </a:lnTo>
                <a:lnTo>
                  <a:pt x="1128" y="1236"/>
                </a:lnTo>
                <a:lnTo>
                  <a:pt x="1092" y="1236"/>
                </a:lnTo>
                <a:lnTo>
                  <a:pt x="1044" y="1272"/>
                </a:lnTo>
                <a:lnTo>
                  <a:pt x="1008" y="1272"/>
                </a:lnTo>
                <a:lnTo>
                  <a:pt x="972" y="1296"/>
                </a:lnTo>
                <a:lnTo>
                  <a:pt x="936" y="1308"/>
                </a:lnTo>
                <a:lnTo>
                  <a:pt x="888" y="1332"/>
                </a:lnTo>
                <a:lnTo>
                  <a:pt x="816" y="1344"/>
                </a:lnTo>
                <a:lnTo>
                  <a:pt x="756" y="1380"/>
                </a:lnTo>
                <a:lnTo>
                  <a:pt x="720" y="1404"/>
                </a:lnTo>
                <a:lnTo>
                  <a:pt x="684" y="1416"/>
                </a:lnTo>
                <a:lnTo>
                  <a:pt x="636" y="1452"/>
                </a:lnTo>
                <a:lnTo>
                  <a:pt x="588" y="1464"/>
                </a:lnTo>
                <a:lnTo>
                  <a:pt x="552" y="1488"/>
                </a:lnTo>
                <a:lnTo>
                  <a:pt x="492" y="1500"/>
                </a:lnTo>
                <a:lnTo>
                  <a:pt x="444" y="1512"/>
                </a:lnTo>
                <a:lnTo>
                  <a:pt x="384" y="1512"/>
                </a:lnTo>
                <a:lnTo>
                  <a:pt x="348" y="1524"/>
                </a:lnTo>
                <a:lnTo>
                  <a:pt x="312" y="1524"/>
                </a:lnTo>
                <a:lnTo>
                  <a:pt x="276" y="1524"/>
                </a:lnTo>
                <a:lnTo>
                  <a:pt x="240" y="1524"/>
                </a:lnTo>
                <a:lnTo>
                  <a:pt x="204" y="1524"/>
                </a:lnTo>
                <a:lnTo>
                  <a:pt x="168" y="1524"/>
                </a:lnTo>
                <a:lnTo>
                  <a:pt x="120" y="1500"/>
                </a:lnTo>
                <a:lnTo>
                  <a:pt x="84" y="1464"/>
                </a:lnTo>
                <a:lnTo>
                  <a:pt x="72" y="1428"/>
                </a:lnTo>
                <a:lnTo>
                  <a:pt x="48" y="1392"/>
                </a:lnTo>
                <a:lnTo>
                  <a:pt x="36" y="1356"/>
                </a:lnTo>
                <a:lnTo>
                  <a:pt x="24" y="1320"/>
                </a:lnTo>
                <a:lnTo>
                  <a:pt x="24" y="1284"/>
                </a:lnTo>
                <a:lnTo>
                  <a:pt x="0" y="1248"/>
                </a:lnTo>
                <a:lnTo>
                  <a:pt x="0" y="1212"/>
                </a:lnTo>
                <a:lnTo>
                  <a:pt x="0" y="1152"/>
                </a:lnTo>
                <a:lnTo>
                  <a:pt x="0" y="1104"/>
                </a:lnTo>
                <a:lnTo>
                  <a:pt x="0" y="1068"/>
                </a:lnTo>
                <a:lnTo>
                  <a:pt x="0" y="1032"/>
                </a:lnTo>
                <a:lnTo>
                  <a:pt x="0" y="996"/>
                </a:lnTo>
                <a:lnTo>
                  <a:pt x="24" y="960"/>
                </a:lnTo>
                <a:lnTo>
                  <a:pt x="24" y="924"/>
                </a:lnTo>
                <a:lnTo>
                  <a:pt x="60" y="888"/>
                </a:lnTo>
                <a:lnTo>
                  <a:pt x="60" y="852"/>
                </a:lnTo>
                <a:lnTo>
                  <a:pt x="84" y="816"/>
                </a:lnTo>
                <a:lnTo>
                  <a:pt x="108" y="780"/>
                </a:lnTo>
                <a:lnTo>
                  <a:pt x="144" y="744"/>
                </a:lnTo>
                <a:lnTo>
                  <a:pt x="180" y="720"/>
                </a:lnTo>
                <a:lnTo>
                  <a:pt x="240" y="684"/>
                </a:lnTo>
                <a:lnTo>
                  <a:pt x="276" y="672"/>
                </a:lnTo>
                <a:lnTo>
                  <a:pt x="312" y="660"/>
                </a:lnTo>
                <a:lnTo>
                  <a:pt x="348" y="648"/>
                </a:lnTo>
                <a:lnTo>
                  <a:pt x="384" y="636"/>
                </a:lnTo>
                <a:lnTo>
                  <a:pt x="432" y="624"/>
                </a:lnTo>
                <a:lnTo>
                  <a:pt x="492" y="600"/>
                </a:lnTo>
                <a:lnTo>
                  <a:pt x="528" y="576"/>
                </a:lnTo>
                <a:lnTo>
                  <a:pt x="564" y="552"/>
                </a:lnTo>
                <a:lnTo>
                  <a:pt x="612" y="516"/>
                </a:lnTo>
                <a:lnTo>
                  <a:pt x="648" y="480"/>
                </a:lnTo>
                <a:lnTo>
                  <a:pt x="696" y="456"/>
                </a:lnTo>
                <a:lnTo>
                  <a:pt x="732" y="420"/>
                </a:lnTo>
                <a:lnTo>
                  <a:pt x="756" y="384"/>
                </a:lnTo>
                <a:lnTo>
                  <a:pt x="792" y="348"/>
                </a:lnTo>
                <a:lnTo>
                  <a:pt x="828" y="312"/>
                </a:lnTo>
                <a:lnTo>
                  <a:pt x="852" y="276"/>
                </a:lnTo>
                <a:lnTo>
                  <a:pt x="888" y="264"/>
                </a:lnTo>
                <a:lnTo>
                  <a:pt x="924" y="252"/>
                </a:lnTo>
                <a:lnTo>
                  <a:pt x="960" y="252"/>
                </a:lnTo>
                <a:lnTo>
                  <a:pt x="996" y="252"/>
                </a:lnTo>
                <a:lnTo>
                  <a:pt x="1032" y="240"/>
                </a:lnTo>
                <a:lnTo>
                  <a:pt x="1068" y="240"/>
                </a:lnTo>
                <a:lnTo>
                  <a:pt x="1104" y="240"/>
                </a:lnTo>
                <a:lnTo>
                  <a:pt x="1164" y="240"/>
                </a:lnTo>
                <a:lnTo>
                  <a:pt x="1200" y="252"/>
                </a:lnTo>
                <a:lnTo>
                  <a:pt x="1236" y="252"/>
                </a:lnTo>
                <a:lnTo>
                  <a:pt x="1272" y="252"/>
                </a:lnTo>
                <a:lnTo>
                  <a:pt x="1308" y="252"/>
                </a:lnTo>
                <a:lnTo>
                  <a:pt x="1344" y="252"/>
                </a:lnTo>
                <a:lnTo>
                  <a:pt x="1380" y="252"/>
                </a:lnTo>
                <a:lnTo>
                  <a:pt x="1416" y="252"/>
                </a:lnTo>
                <a:lnTo>
                  <a:pt x="1452" y="240"/>
                </a:lnTo>
                <a:lnTo>
                  <a:pt x="1512" y="240"/>
                </a:lnTo>
                <a:lnTo>
                  <a:pt x="1560" y="228"/>
                </a:lnTo>
                <a:lnTo>
                  <a:pt x="1596" y="228"/>
                </a:lnTo>
                <a:lnTo>
                  <a:pt x="1632" y="228"/>
                </a:lnTo>
                <a:lnTo>
                  <a:pt x="1704" y="216"/>
                </a:lnTo>
                <a:lnTo>
                  <a:pt x="1752" y="204"/>
                </a:lnTo>
                <a:lnTo>
                  <a:pt x="1800" y="204"/>
                </a:lnTo>
                <a:lnTo>
                  <a:pt x="1860" y="192"/>
                </a:lnTo>
                <a:lnTo>
                  <a:pt x="1896" y="180"/>
                </a:lnTo>
                <a:lnTo>
                  <a:pt x="1956" y="168"/>
                </a:lnTo>
                <a:lnTo>
                  <a:pt x="1992" y="168"/>
                </a:lnTo>
                <a:lnTo>
                  <a:pt x="2028" y="156"/>
                </a:lnTo>
                <a:lnTo>
                  <a:pt x="2088" y="132"/>
                </a:lnTo>
                <a:lnTo>
                  <a:pt x="2124" y="108"/>
                </a:lnTo>
                <a:lnTo>
                  <a:pt x="2184" y="72"/>
                </a:lnTo>
                <a:lnTo>
                  <a:pt x="2220" y="60"/>
                </a:lnTo>
                <a:lnTo>
                  <a:pt x="2256" y="24"/>
                </a:lnTo>
                <a:lnTo>
                  <a:pt x="2292" y="24"/>
                </a:lnTo>
                <a:lnTo>
                  <a:pt x="2328" y="12"/>
                </a:lnTo>
                <a:lnTo>
                  <a:pt x="2364" y="0"/>
                </a:lnTo>
                <a:lnTo>
                  <a:pt x="2424" y="0"/>
                </a:lnTo>
                <a:lnTo>
                  <a:pt x="2472" y="0"/>
                </a:lnTo>
                <a:lnTo>
                  <a:pt x="2508" y="0"/>
                </a:lnTo>
                <a:lnTo>
                  <a:pt x="2544" y="12"/>
                </a:lnTo>
                <a:lnTo>
                  <a:pt x="2580" y="12"/>
                </a:lnTo>
                <a:lnTo>
                  <a:pt x="2628" y="12"/>
                </a:lnTo>
                <a:lnTo>
                  <a:pt x="2676" y="12"/>
                </a:lnTo>
                <a:lnTo>
                  <a:pt x="2712" y="12"/>
                </a:lnTo>
                <a:lnTo>
                  <a:pt x="2748" y="12"/>
                </a:lnTo>
                <a:lnTo>
                  <a:pt x="2796" y="12"/>
                </a:lnTo>
                <a:lnTo>
                  <a:pt x="2832" y="24"/>
                </a:lnTo>
                <a:lnTo>
                  <a:pt x="2868" y="24"/>
                </a:lnTo>
                <a:lnTo>
                  <a:pt x="2904" y="24"/>
                </a:lnTo>
                <a:lnTo>
                  <a:pt x="2940" y="36"/>
                </a:lnTo>
                <a:lnTo>
                  <a:pt x="2976" y="48"/>
                </a:lnTo>
                <a:lnTo>
                  <a:pt x="3012" y="48"/>
                </a:lnTo>
                <a:lnTo>
                  <a:pt x="3048" y="60"/>
                </a:lnTo>
                <a:lnTo>
                  <a:pt x="3084" y="84"/>
                </a:lnTo>
                <a:lnTo>
                  <a:pt x="3144" y="84"/>
                </a:lnTo>
                <a:lnTo>
                  <a:pt x="3216" y="96"/>
                </a:lnTo>
                <a:lnTo>
                  <a:pt x="3288" y="108"/>
                </a:lnTo>
                <a:lnTo>
                  <a:pt x="3336" y="108"/>
                </a:lnTo>
                <a:lnTo>
                  <a:pt x="3372" y="120"/>
                </a:lnTo>
                <a:lnTo>
                  <a:pt x="3408" y="120"/>
                </a:lnTo>
                <a:lnTo>
                  <a:pt x="3444" y="120"/>
                </a:lnTo>
                <a:lnTo>
                  <a:pt x="3504" y="120"/>
                </a:lnTo>
                <a:lnTo>
                  <a:pt x="3612" y="120"/>
                </a:lnTo>
                <a:lnTo>
                  <a:pt x="3672" y="120"/>
                </a:lnTo>
                <a:lnTo>
                  <a:pt x="3708" y="120"/>
                </a:lnTo>
                <a:lnTo>
                  <a:pt x="3756" y="144"/>
                </a:lnTo>
                <a:lnTo>
                  <a:pt x="3804" y="156"/>
                </a:lnTo>
                <a:lnTo>
                  <a:pt x="3840" y="168"/>
                </a:lnTo>
                <a:lnTo>
                  <a:pt x="3876" y="168"/>
                </a:lnTo>
                <a:lnTo>
                  <a:pt x="3912" y="180"/>
                </a:lnTo>
                <a:lnTo>
                  <a:pt x="3960" y="192"/>
                </a:lnTo>
                <a:lnTo>
                  <a:pt x="4020" y="192"/>
                </a:lnTo>
                <a:lnTo>
                  <a:pt x="4068" y="192"/>
                </a:lnTo>
                <a:lnTo>
                  <a:pt x="4116" y="192"/>
                </a:lnTo>
                <a:lnTo>
                  <a:pt x="4164" y="192"/>
                </a:lnTo>
                <a:lnTo>
                  <a:pt x="4200" y="204"/>
                </a:lnTo>
                <a:lnTo>
                  <a:pt x="4236" y="216"/>
                </a:lnTo>
                <a:lnTo>
                  <a:pt x="4284" y="228"/>
                </a:lnTo>
                <a:lnTo>
                  <a:pt x="4332" y="264"/>
                </a:lnTo>
                <a:lnTo>
                  <a:pt x="4404" y="276"/>
                </a:lnTo>
                <a:lnTo>
                  <a:pt x="4512" y="300"/>
                </a:lnTo>
                <a:lnTo>
                  <a:pt x="4548" y="312"/>
                </a:lnTo>
                <a:lnTo>
                  <a:pt x="4584" y="336"/>
                </a:lnTo>
                <a:lnTo>
                  <a:pt x="4620" y="384"/>
                </a:lnTo>
                <a:lnTo>
                  <a:pt x="4632" y="420"/>
                </a:lnTo>
                <a:lnTo>
                  <a:pt x="4680" y="492"/>
                </a:lnTo>
                <a:lnTo>
                  <a:pt x="4692" y="528"/>
                </a:lnTo>
                <a:lnTo>
                  <a:pt x="4716" y="576"/>
                </a:lnTo>
                <a:lnTo>
                  <a:pt x="4752" y="636"/>
                </a:lnTo>
                <a:lnTo>
                  <a:pt x="4764" y="672"/>
                </a:lnTo>
                <a:lnTo>
                  <a:pt x="4764" y="708"/>
                </a:lnTo>
                <a:lnTo>
                  <a:pt x="4800" y="756"/>
                </a:lnTo>
                <a:lnTo>
                  <a:pt x="4800" y="792"/>
                </a:lnTo>
                <a:lnTo>
                  <a:pt x="4812" y="852"/>
                </a:lnTo>
                <a:lnTo>
                  <a:pt x="4812" y="900"/>
                </a:lnTo>
                <a:lnTo>
                  <a:pt x="4812" y="948"/>
                </a:lnTo>
                <a:lnTo>
                  <a:pt x="4812" y="984"/>
                </a:lnTo>
                <a:lnTo>
                  <a:pt x="4812" y="1032"/>
                </a:lnTo>
                <a:lnTo>
                  <a:pt x="4812" y="1068"/>
                </a:lnTo>
                <a:lnTo>
                  <a:pt x="4764" y="1104"/>
                </a:lnTo>
                <a:lnTo>
                  <a:pt x="4740" y="1140"/>
                </a:lnTo>
                <a:lnTo>
                  <a:pt x="4704" y="1140"/>
                </a:lnTo>
                <a:lnTo>
                  <a:pt x="4668" y="1152"/>
                </a:lnTo>
                <a:lnTo>
                  <a:pt x="4620" y="1176"/>
                </a:lnTo>
                <a:lnTo>
                  <a:pt x="4584" y="1188"/>
                </a:lnTo>
                <a:lnTo>
                  <a:pt x="4548" y="1212"/>
                </a:lnTo>
                <a:lnTo>
                  <a:pt x="4476" y="1236"/>
                </a:lnTo>
                <a:lnTo>
                  <a:pt x="4440" y="1248"/>
                </a:lnTo>
                <a:lnTo>
                  <a:pt x="4404" y="1260"/>
                </a:lnTo>
                <a:lnTo>
                  <a:pt x="4344" y="1272"/>
                </a:lnTo>
                <a:lnTo>
                  <a:pt x="4284" y="1296"/>
                </a:lnTo>
                <a:lnTo>
                  <a:pt x="4236" y="1320"/>
                </a:lnTo>
                <a:lnTo>
                  <a:pt x="4188" y="1320"/>
                </a:lnTo>
                <a:lnTo>
                  <a:pt x="4152" y="1320"/>
                </a:lnTo>
                <a:lnTo>
                  <a:pt x="4104" y="1320"/>
                </a:lnTo>
                <a:lnTo>
                  <a:pt x="4056" y="1320"/>
                </a:lnTo>
                <a:lnTo>
                  <a:pt x="4008" y="1320"/>
                </a:lnTo>
                <a:lnTo>
                  <a:pt x="3972" y="1320"/>
                </a:lnTo>
                <a:lnTo>
                  <a:pt x="3936" y="1320"/>
                </a:lnTo>
                <a:lnTo>
                  <a:pt x="3900" y="1320"/>
                </a:lnTo>
                <a:lnTo>
                  <a:pt x="3840" y="1308"/>
                </a:lnTo>
                <a:lnTo>
                  <a:pt x="3804" y="1308"/>
                </a:lnTo>
                <a:lnTo>
                  <a:pt x="3768" y="1296"/>
                </a:lnTo>
                <a:lnTo>
                  <a:pt x="3720" y="1284"/>
                </a:lnTo>
                <a:lnTo>
                  <a:pt x="3672" y="1284"/>
                </a:lnTo>
                <a:lnTo>
                  <a:pt x="3612" y="1272"/>
                </a:lnTo>
                <a:lnTo>
                  <a:pt x="3576" y="1260"/>
                </a:lnTo>
                <a:lnTo>
                  <a:pt x="3516" y="1260"/>
                </a:lnTo>
                <a:lnTo>
                  <a:pt x="3456" y="1248"/>
                </a:lnTo>
                <a:lnTo>
                  <a:pt x="3420" y="1236"/>
                </a:lnTo>
                <a:lnTo>
                  <a:pt x="3384" y="1236"/>
                </a:lnTo>
                <a:lnTo>
                  <a:pt x="3348" y="1224"/>
                </a:lnTo>
                <a:lnTo>
                  <a:pt x="3300" y="1212"/>
                </a:lnTo>
                <a:lnTo>
                  <a:pt x="3252" y="1188"/>
                </a:lnTo>
                <a:lnTo>
                  <a:pt x="3204" y="1164"/>
                </a:lnTo>
                <a:lnTo>
                  <a:pt x="3120" y="1116"/>
                </a:lnTo>
                <a:lnTo>
                  <a:pt x="3084" y="1092"/>
                </a:lnTo>
                <a:lnTo>
                  <a:pt x="3048" y="1056"/>
                </a:lnTo>
                <a:lnTo>
                  <a:pt x="3012" y="996"/>
                </a:lnTo>
                <a:lnTo>
                  <a:pt x="3000" y="948"/>
                </a:lnTo>
                <a:lnTo>
                  <a:pt x="2964" y="912"/>
                </a:lnTo>
                <a:lnTo>
                  <a:pt x="2952" y="876"/>
                </a:lnTo>
                <a:lnTo>
                  <a:pt x="2952" y="828"/>
                </a:lnTo>
                <a:lnTo>
                  <a:pt x="2952" y="780"/>
                </a:lnTo>
                <a:lnTo>
                  <a:pt x="2964" y="732"/>
                </a:lnTo>
                <a:lnTo>
                  <a:pt x="3000" y="684"/>
                </a:lnTo>
                <a:lnTo>
                  <a:pt x="3036" y="636"/>
                </a:lnTo>
                <a:lnTo>
                  <a:pt x="3048" y="588"/>
                </a:lnTo>
                <a:lnTo>
                  <a:pt x="3072" y="540"/>
                </a:lnTo>
                <a:lnTo>
                  <a:pt x="3072" y="504"/>
                </a:lnTo>
                <a:lnTo>
                  <a:pt x="3072" y="468"/>
                </a:lnTo>
                <a:lnTo>
                  <a:pt x="3072" y="432"/>
                </a:lnTo>
                <a:lnTo>
                  <a:pt x="3072" y="384"/>
                </a:lnTo>
                <a:lnTo>
                  <a:pt x="3048" y="336"/>
                </a:lnTo>
                <a:lnTo>
                  <a:pt x="3000" y="312"/>
                </a:lnTo>
                <a:lnTo>
                  <a:pt x="2964" y="288"/>
                </a:lnTo>
                <a:lnTo>
                  <a:pt x="2928" y="288"/>
                </a:lnTo>
                <a:lnTo>
                  <a:pt x="2868" y="264"/>
                </a:lnTo>
                <a:lnTo>
                  <a:pt x="2832" y="252"/>
                </a:lnTo>
                <a:lnTo>
                  <a:pt x="2796" y="252"/>
                </a:lnTo>
                <a:lnTo>
                  <a:pt x="2760" y="240"/>
                </a:lnTo>
                <a:lnTo>
                  <a:pt x="2724" y="228"/>
                </a:lnTo>
                <a:lnTo>
                  <a:pt x="2688" y="228"/>
                </a:lnTo>
                <a:lnTo>
                  <a:pt x="2652" y="216"/>
                </a:lnTo>
                <a:lnTo>
                  <a:pt x="2592" y="216"/>
                </a:lnTo>
                <a:lnTo>
                  <a:pt x="2556" y="216"/>
                </a:lnTo>
                <a:lnTo>
                  <a:pt x="2508" y="216"/>
                </a:lnTo>
                <a:lnTo>
                  <a:pt x="2472" y="216"/>
                </a:lnTo>
                <a:lnTo>
                  <a:pt x="2436" y="216"/>
                </a:lnTo>
                <a:lnTo>
                  <a:pt x="2436" y="252"/>
                </a:lnTo>
                <a:lnTo>
                  <a:pt x="2424" y="26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256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5840" y="4121280"/>
            <a:ext cx="2349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verview, 802.11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82640" y="2749680"/>
            <a:ext cx="234972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190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40240" y="53402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16560" y="2749680"/>
            <a:ext cx="23493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18800" y="532764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7188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19000" y="433692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9552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998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89000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85280" y="3117960"/>
            <a:ext cx="57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11240" y="313056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206880" y="3130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21480" y="3130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016760" y="313056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40040" y="5340240"/>
            <a:ext cx="52092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340240" y="43498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740040" y="434988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407280" y="2749680"/>
            <a:ext cx="3682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38532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75440" y="2736720"/>
            <a:ext cx="452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97040" y="2749680"/>
            <a:ext cx="3682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819520" y="23558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629400" y="23558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9840" y="2362320"/>
            <a:ext cx="51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414680" y="174780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1940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1980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09920" y="31957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38920" y="4795920"/>
            <a:ext cx="619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86080" y="2357280"/>
            <a:ext cx="1381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sting Wired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1120" y="3500280"/>
            <a:ext cx="1609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4780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3320" y="4719600"/>
            <a:ext cx="1000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quency Hopping and Direct Sequence Spread Spectrum Techniq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Spectrum used to avoid interference from licensed and other non-licensed users, and from noise, e.g., microwave ov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Hopping (FH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ne of 78 hop sequences, hop to a new 1MHz channel (out of the total of 79 channels) at least every 400milli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quires hop acquisition and synchroniz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ops away from inter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Sequence (DS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one of 11 overlapping channels, multiply the data by an 11-bit number to spread the 1M-symbol/sec data over 11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quires RF linearity over 11MHz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preading yields processing gain at receiv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ess immune to interfer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EEE 802.11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40402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opted in 1997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Defin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 sub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 management protocol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(PHY) lay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72120" y="1752480"/>
            <a:ext cx="4635000" cy="17398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liver services in wire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high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highly reliable data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hieve continuous network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802.11 Physical Lay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amble Sync, 16-bit Start Frame Delimiter, PLCP Header including 16-bit Header CRC, MPDU, 32-bit C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&amp; 4GF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hitening for Bias Sup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2/33 bit stuffing and block inver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-bit LFSR scramb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-bit Preamble Syn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bi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PSK &amp; DQP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crambling using 8-bit L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-bit Preamble Sync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-bit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802.11 Physical Layer, cont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nna Diver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ath fading a signal can inhibit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antennas can significantly min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cial Separation of Orthoga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Antenna during Preamble Sync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ce of Preamble Sync patter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ce of ener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191240" indent="-271800">
              <a:spcBef>
                <a:spcPts val="349"/>
              </a:spcBef>
              <a:buClr>
                <a:srgbClr val="3300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SSI - Received Signal Strength Ind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8000" indent="-27288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bination of bot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Channel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reliable indication that channel is in use to defe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ame mechanisms as for Antenna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AV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45720" y="415440"/>
            <a:ext cx="656604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a00b4"/>
                </a:solidFill>
                <a:latin typeface="Arial"/>
              </a:rPr>
              <a:t>Performance, Theoretical Maximum Throughp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177120" indent="-177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put numbers in Mbits/se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1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s 100ms beacon interval, RTS, CTS used, no coll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1132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ide courtesy of Matt Fischer, A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219320" y="2457360"/>
          <a:ext cx="688644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57360"/>
                    <a:ext cx="688644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onen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SS - Basic Servic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B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frastructure B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B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S - Extended Service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et of infrastrucute BS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on of 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ing of mo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 – Distribution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communicates with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 servic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entica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-authentication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cy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Servic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 A thin layer between MAC and LLC sublay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648320"/>
            <a:ext cx="3733920" cy="12027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on maintain two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state  (=&gt;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state       (&lt;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76520" y="623880"/>
            <a:ext cx="609588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um Access Contr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943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alit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irly control acc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on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al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isy and unreliable me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ame exchange protocol - 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head to IEEE 802.3 -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dden Node Problem – RTS/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cipation of all s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ction to every f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C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ry Coun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retry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retry co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time ti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 Access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MA/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exponential back-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V – Network Allocation V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ing Intervals: SIFS, Slot Time, PIFS, DIFS, E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CF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CF Ope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22:15:12Z</dcterms:created>
  <dc:creator>ergen</dc:creator>
  <dc:description/>
  <dc:language>en-US</dc:language>
  <cp:lastModifiedBy>ergen</cp:lastModifiedBy>
  <dcterms:modified xsi:type="dcterms:W3CDTF">2002-05-20T10:25:15Z</dcterms:modified>
  <cp:revision>61</cp:revision>
  <dc:subject/>
  <dc:title>IEEE 802.11 Overview</dc:title>
</cp:coreProperties>
</file>