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5FF-0DEF-4879-8929-0C6B72E6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3F7-3C97-4C7D-8068-395103D8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AE5-0898-41A1-B6E6-A7EED426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18E-BC62-4EB3-8DB4-5D585401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32B4-A99A-4A5C-8376-434D90B1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AFA0-DFDB-4406-8713-87FAF788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8A6D-3766-4BC5-9367-5E52E48B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977B-89C4-4F99-8C12-57A79AC4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E7E2-60F0-48EE-AC01-7F0C0F6C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C98C-05DB-4BF2-BB18-57B2F1A7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8665-F98D-4879-BAAA-C901B756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A63-69D7-4856-947A-F560D9E1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E658-9DBA-4601-ACE2-52CF8A42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52EB-1511-4453-BC34-C566B538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5458-EAA5-4BE2-BAF6-58B2D8DA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7E32-F769-4A6C-80BB-65DF2660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BB44-2614-47D3-84C4-8D1C6301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10C-2F40-4165-9DCC-218F41AF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2FD3-2EC6-4288-8BDB-844D6942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A01-B0AF-4ED8-AA42-DFC7B648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D7D5-FFCE-474E-96A9-E6325A58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5DEF-2A9F-4675-943B-CDF62236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A80F-D06D-49F7-90BF-1897DA36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A69-3899-43DA-AD1A-D8793D90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3E11-EE89-4426-917C-3FA9582A2723}" type="slidenum">
              <a:rPr b="0" lang="ar-SA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9C57-8B1B-47C8-B0AD-AA56C3D79000}" type="slidenum">
              <a:rPr b="0" lang="ar-SA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بسم%20الله%20الرحمن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710320" cy="22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صعوبة الاعتماد على المميزات الزمنية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7088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صعوبة الاعتماد على المميزات الزمنية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077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الاعتماد على المجال الترددي ( الطيف )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83073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التعرف على الأحرف</a:t>
            </a:r>
            <a:r>
              <a:rPr b="0" lang="ar-SA" sz="6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  <a:ea typeface="Times New Roman (Arabic)"/>
              </a:rPr>
              <a:t>Speech Recognition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Times New Roman"/>
                <a:ea typeface="Times New Roman (Arabic)"/>
              </a:rPr>
              <a:t>S p e e c h    R e c o g n i t i o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61760" y="3886200"/>
            <a:ext cx="75960" cy="1447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3809880"/>
            <a:ext cx="761760" cy="1676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3809880"/>
            <a:ext cx="1066680" cy="15242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09880"/>
            <a:ext cx="2590920" cy="1676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تصنيف الأحرف الانكليزية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00600" y="205740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الأحرف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الأحرف قبل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الأحرف بعد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525780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  <a:ea typeface="Times New Roman (Arabic)"/>
              </a:rPr>
              <a:t>ABCDEFGHIJKLMNOPQRSTUVWXYZ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تصنيف الأحرف الانكليزية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00600" y="205740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ff33"/>
                </a:solidFill>
                <a:latin typeface="Times New Roman"/>
                <a:cs typeface="DecoType Naskh"/>
              </a:rPr>
              <a:t>الأحرف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أحرف قبل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أحرف بعد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525780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A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BCD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E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FGH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I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JKLMN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O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PQRST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U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VWXYZ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تصنيف الأحرف الانكليزية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00600" y="205740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أحرف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ff33"/>
                </a:solidFill>
                <a:latin typeface="Times New Roman"/>
                <a:cs typeface="DecoType Naskh"/>
              </a:rPr>
              <a:t>الأحرف قبل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أحرف بعد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525780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A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BCD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EF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G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HI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JK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LMNO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PQ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RS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T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U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V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WX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YZ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تصنيف الأحرف الانكليزية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00600" y="205740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أحرف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أحرف قبل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ff33"/>
                </a:solidFill>
                <a:latin typeface="Times New Roman"/>
                <a:cs typeface="DecoType Naskh"/>
              </a:rPr>
              <a:t>الأحرف بعد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525780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ABCDE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F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G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H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IJK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LMN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OPQ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RS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TUVW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  <a:ea typeface="Times New Roman (Arabic)"/>
              </a:rPr>
              <a:t>X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YZ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الأحرف الصوتية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الأحرف قبل الصوتية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124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     b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     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     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     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      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     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      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     k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057400"/>
            <a:ext cx="3124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 (Arabic)"/>
              </a:rPr>
              <a:t>T      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 (Arabic)"/>
              </a:rPr>
              <a:t>V     v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 (Arabic)"/>
              </a:rPr>
              <a:t>W    dbl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 (Arabic)"/>
              </a:rPr>
              <a:t>Y     oa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 (Arabic)"/>
              </a:rPr>
              <a:t>Z      z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تطبيقات الصوت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باستخدام الشبكات العصب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الأحرف بعد الصوتية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124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     a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    ath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     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    a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     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     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     a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    akc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2057400"/>
            <a:ext cx="3124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الحرف الصوتي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360" y="360360"/>
            <a:ext cx="16160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3399ff"/>
                </a:solidFill>
                <a:latin typeface="Times New Roman"/>
                <a:ea typeface="Times New Roman (Arabic)"/>
              </a:rPr>
              <a:t>E</a:t>
            </a:r>
            <a:endParaRPr b="0" lang="en-US" sz="17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2906640"/>
            <a:ext cx="868680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الحرف قبل الصوتي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360" y="360360"/>
            <a:ext cx="16160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3399ff"/>
                </a:solidFill>
                <a:latin typeface="Times New Roman"/>
                <a:ea typeface="Times New Roman (Arabic)"/>
              </a:rPr>
              <a:t>C</a:t>
            </a:r>
            <a:endParaRPr b="0" lang="en-US" sz="17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2830680"/>
            <a:ext cx="868680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الحرف بعد الصوتي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360" y="360360"/>
            <a:ext cx="16160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3399ff"/>
                </a:solidFill>
                <a:latin typeface="Times New Roman"/>
                <a:ea typeface="Times New Roman (Arabic)"/>
              </a:rPr>
              <a:t>F</a:t>
            </a:r>
            <a:endParaRPr b="0" lang="en-US" sz="17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5341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التعرف على الكلام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محررات النصوص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الأوامر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تمكين المعاقين من استخدام الحاس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تمييز الأصوات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البصمة ( كلمة السر ) الصو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التعرف على الأشخاص دون رؤيتهم</a:t>
            </a:r>
            <a:r>
              <a:rPr b="0" lang="ar-S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مميزات الصوت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76560" y="2057040"/>
            <a:ext cx="359892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الشدة ( المطال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الحدة ( التردد أو الطيف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cc"/>
                </a:solidFill>
                <a:latin typeface="Times New Roman"/>
                <a:cs typeface="DecoType Naskh"/>
              </a:rPr>
              <a:t>الطابع (التوافقيات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381024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مميزات الصوت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6560" y="2057040"/>
            <a:ext cx="359892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ff33"/>
                </a:solidFill>
                <a:latin typeface="Times New Roman"/>
                <a:cs typeface="DecoType Naskh"/>
              </a:rPr>
              <a:t>الشدة ( المطال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حدة ( التردد أو الطيف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طابع (التوافقيات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4114800" cy="1981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0" y="4419720"/>
            <a:ext cx="4255920" cy="2031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480" y="2209680"/>
            <a:ext cx="381024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مميزات الصوت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6560" y="2057040"/>
            <a:ext cx="359892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شدة ( المطال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ff33"/>
                </a:solidFill>
                <a:latin typeface="Times New Roman"/>
                <a:cs typeface="DecoType Naskh"/>
              </a:rPr>
              <a:t>الحدة ( التردد أو الطيف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طابع (التوافقيات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4267080"/>
            <a:ext cx="4038840" cy="2210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19720" y="4191120"/>
            <a:ext cx="4400280" cy="2388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09480" y="2209680"/>
            <a:ext cx="381024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مميزات الصوت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76560" y="2057040"/>
            <a:ext cx="359892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شدة ( المطال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4c00"/>
                </a:solidFill>
                <a:latin typeface="Times New Roman"/>
                <a:cs typeface="DecoType Naskh"/>
              </a:rPr>
              <a:t>الحدة ( التردد أو الطيف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ff33"/>
                </a:solidFill>
                <a:latin typeface="Times New Roman"/>
                <a:cs typeface="DecoType Naskh"/>
              </a:rPr>
              <a:t>الطابع (التوافقيات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8381880" cy="2133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381024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cc66"/>
                </a:solidFill>
                <a:latin typeface="Souvenir Lt BT"/>
                <a:cs typeface="DecoType Naskh Variants"/>
              </a:rPr>
              <a:t>شكل الموجة للصوت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0880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6T05:28:52Z</dcterms:created>
  <dc:creator>عبد الرحمن منصور</dc:creator>
  <dc:description/>
  <dc:language>en-US</dc:language>
  <cp:lastModifiedBy>عبد الرحمن منصور</cp:lastModifiedBy>
  <dcterms:modified xsi:type="dcterms:W3CDTF">1999-02-11T11:43:23Z</dcterms:modified>
  <cp:revision>22</cp:revision>
  <dc:subject/>
  <dc:title>تطبيقات الصوت</dc:title>
</cp:coreProperties>
</file>