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BF4-CF3F-409F-B354-61F99E0D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E88-4B88-4863-99C7-C0C3EE68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C94-414D-401A-8744-FFB39F00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0B7-1B13-40C2-B451-C81116C3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C7D6-450F-450E-B479-6580DFD2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A186-CF1E-43B5-8ACE-E0E0D826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1D42-1A93-40C0-A80D-75335DF3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EC19-ABB2-469D-AEBD-1248B30B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8BB1-ECEA-499B-9D27-E0451AE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9D93-F5CA-4AAB-A0F3-D7B74769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6D5-5547-454C-8590-D1E43C16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AF6-BC77-464E-B307-B3B91DD7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76B2-2657-4864-A497-7FAFEB54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E4ED-5F93-410B-A126-8647BC8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3962-4C88-4D83-8E19-CC5AEC34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F214-EE0E-4045-BF3B-1C1739E3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064E-C809-4449-8FAC-0434C834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F76-9319-4053-B17F-D4C934EE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802-5AEA-4AFA-AA85-1D74D844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6C1-A98A-476B-BE00-10F4CDAE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966-56BE-4DA6-B1B8-E5A607F4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BCA-A7F9-4092-84E2-4EF414BD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DD3-8A82-44C2-B639-24DF8AC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41E-61F9-4D48-9A27-45539B9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6AEA-88AA-4893-8127-43393E7CA6A4}" type="slidenum">
              <a:rPr b="0" lang="ar-SA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6C36-CFD8-4BC9-9E95-94AF97215FCF}" type="slidenum">
              <a:rPr b="0" lang="ar-SA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بسم%20الله%20الرحمن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10320" cy="22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صعوبة الاعتماد على المميزات الزمن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088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صعوبة الاعتماد على المميزات الزمن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اعتماد على المجال الترددي ( الطيف )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3073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تعرف على الأحرف</a:t>
            </a:r>
            <a:r>
              <a:rPr b="0" lang="ar-SA" sz="6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  <a:ea typeface="Times New Roman (Arabic)"/>
              </a:rPr>
              <a:t>Speech Recognitio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Times New Roman"/>
                <a:ea typeface="Times New Roman (Arabic)"/>
              </a:rPr>
              <a:t>S p e e c h    R e c o g n i t i o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61760" y="3886200"/>
            <a:ext cx="75960" cy="1447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809880"/>
            <a:ext cx="761760" cy="1676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809880"/>
            <a:ext cx="1066680" cy="15242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09880"/>
            <a:ext cx="2590920" cy="1676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صنيف الأحرف الانكليز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أحرف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أحرف قبل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أحرف بعد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  <a:ea typeface="Times New Roman (Arabic)"/>
              </a:rPr>
              <a:t>ABCDEFGHIJKLMNOPQRSTUVWXYZ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صنيف الأحرف الانكليز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أحرف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قبل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بعد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A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BCD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E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FGH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I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JKLMN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O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PQRST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U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VWXYZ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صنيف الأحرف الانكليز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أحرف قبل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بعد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A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BCD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EF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G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HI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JK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LMNO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PQ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RS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T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U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V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WX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YZ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صنيف الأحرف الانكليز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قبل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أحرف بعد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ABCDE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F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G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H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IJK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LMN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OPQ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RS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TUVW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X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YZ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أحرف الصوت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أحرف قبل الصوت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     b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     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     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     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      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     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      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     k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057400"/>
            <a:ext cx="3124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T      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V     v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W    dbl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Y     o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Z      z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طبيق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باستخدام الشبكات العصب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أحرف بعد الصوت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     a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    ath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     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    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     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     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     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    akc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057400"/>
            <a:ext cx="3124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حرف الصوتي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360" y="360360"/>
            <a:ext cx="161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E</a:t>
            </a:r>
            <a:endParaRPr b="0" lang="en-US" sz="17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2906640"/>
            <a:ext cx="868680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حرف قبل الصوتي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360" y="360360"/>
            <a:ext cx="161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C</a:t>
            </a:r>
            <a:endParaRPr b="0" lang="en-US" sz="17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2830680"/>
            <a:ext cx="868680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حرف بعد الصوتي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360360"/>
            <a:ext cx="161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F</a:t>
            </a:r>
            <a:endParaRPr b="0" lang="en-US" sz="17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تعرف على الكلام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محررات النصوص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أوامر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تمكين المعاقين من استخدام الحاس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مييز الأصوا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بصمة ( كلمة السر )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تعرف على الأشخاص دون رؤيتهم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مميز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76560" y="2057040"/>
            <a:ext cx="359892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شدة ( المطال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حدة ( التردد أو الطيف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طابع (التوافقيات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مميز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560" y="2057040"/>
            <a:ext cx="359892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شدة ( المطال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حدة ( التردد أو الطيف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طابع (التوافقيات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411480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4419720"/>
            <a:ext cx="4255920" cy="2031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مميز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2057040"/>
            <a:ext cx="359892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شدة ( المطال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حدة ( التردد أو الطيف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طابع (التوافقيات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4038840" cy="2210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19720" y="4191120"/>
            <a:ext cx="4400280" cy="238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مميز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6560" y="2057040"/>
            <a:ext cx="359892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شدة ( المطال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حدة ( التردد أو الطيف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طابع (التوافقيات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838188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شكل الموجة ل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088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6T05:28:52Z</dcterms:created>
  <dc:creator>عبد الرحمن منصور</dc:creator>
  <dc:description/>
  <dc:language>en-US</dc:language>
  <cp:lastModifiedBy>عبد الرحمن منصور</cp:lastModifiedBy>
  <dcterms:modified xsi:type="dcterms:W3CDTF">1999-02-11T11:43:23Z</dcterms:modified>
  <cp:revision>22</cp:revision>
  <dc:subject/>
  <dc:title>تطبيقات الصوت</dc:title>
</cp:coreProperties>
</file>