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FA303-2674-4E4D-80AF-81D757B4E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6302-7A1B-4E61-BF32-A1686583D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C3B83-3686-465C-915D-D0366D8CE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B291-4841-410A-9263-D98241A8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647AA-EBEE-4003-92EC-ABC651BF9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D5244-CEB0-43CE-9CE5-E4F0C53BD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D8D78-2313-4FB9-AB6B-BE09977A1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1D5E7-4592-4F8C-A381-B4843D920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2896D-6037-4D6F-86DB-BC8951553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0FE79-EA82-4769-9CA2-5382A7B08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CF90-F7EA-46BF-865F-FD529D0A8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D0AA7-4323-43AE-8935-CED533BAB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DCBB8-102C-488A-82F5-1AB56D653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F8D1-2F4C-4678-9BFA-01E5828C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EA882-79D9-4482-AF2F-3A5BC3597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C980B-D356-408A-92C4-DC827D6F4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6645A-E2C1-40B0-94B2-A12FAABFE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C765-786C-4955-A5CD-56943898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3A1C-AEC2-4462-9346-3ECA14482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0C1C-EB22-4D8F-9A32-9F4A9DEBB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F6125-8988-4616-BC9C-69FF5996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3D36-04E8-4A0D-8BC2-A5352732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0C12-5EB3-4268-9C06-52C151D15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0FB2-D82E-4926-8BB5-B647BB56D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C616-0427-4FE3-8515-B287D98E61FA}"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649F-BDE6-42A4-AB9E-57EEEB97E174}"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Ο ανοιγμένος παράδεισος</a:t>
            </a: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Κυριακή του Πάσχα )</a:t>
            </a:r>
            <a:endParaRPr b="0" lang="en-US" sz="2800" spc="-1" strike="noStrike">
              <a:solidFill>
                <a:srgbClr val="ffffff"/>
              </a:solidFill>
              <a:latin typeface="Arial"/>
            </a:endParaRPr>
          </a:p>
        </p:txBody>
      </p:sp>
      <p:pic>
        <p:nvPicPr>
          <p:cNvPr id="84" name="Picture 4"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3)Η Αγάπη</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ο απόγευμα του Πάσχα ψάλλεται στους ναούς ο Εσπερινός του Πάσχα</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σπερινός της αγάπης (οι χριστιανοί αλληλοσυγχωρούνται και συμφιλιώνονται μεταξύ τους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ναστάσεως ημέρα και λαμπρυνθώμεν τη πανηγύρει και αλλήλους περιπτυξώμεθα. Είπωμεν αδελφοί και τοις μισούσιν ημάς συγχωρήσωμεν πάντα τη Αναστάσει. Και ούτω βοήσωμεν. Χριστός Ανέστη εκ νεκρών θανάτω θάνατο πατήσας και τοις εν τοις μνήμασι ζωήν χαρισάμενος»</a:t>
            </a:r>
            <a:endParaRPr b="0" lang="en-US" sz="2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7e7ff"/>
                </a:solidFill>
                <a:latin typeface="Arial"/>
              </a:rPr>
              <a:t>1) Η τελετή της Αναστάσεως του Χριστού</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 νύχτα του Μ . Σαββάτου  οι πιστοί αρχίζουν να συγκεντρώνονται  (γύρω στις 11 μ.μ ) στην Εκκλησία.</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 επιτάφιος άδειος έχει μετακινηθεί από το κέντρο του Ναού και έχει τοποθετηθεί στη θέση του.</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Σώμα του Χριστού έχει απλωθεί πάνω στην Αγία τράπεζα </a:t>
            </a:r>
            <a:endParaRPr b="0" lang="en-US" sz="2400" spc="-1" strike="noStrike">
              <a:solidFill>
                <a:srgbClr val="ffffff"/>
              </a:solidFill>
              <a:latin typeface="Arial"/>
            </a:endParaRPr>
          </a:p>
        </p:txBody>
      </p:sp>
      <p:pic>
        <p:nvPicPr>
          <p:cNvPr id="87" name="Picture 4" descr=""/>
          <p:cNvPicPr/>
          <p:nvPr/>
        </p:nvPicPr>
        <p:blipFill>
          <a:blip r:embed="rId1"/>
          <a:stretch/>
        </p:blipFill>
        <p:spPr>
          <a:xfrm>
            <a:off x="4648320" y="1676520"/>
            <a:ext cx="4495680" cy="51814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 θέση αυτή θα παραμείνει 40 ημέρες μέχρι την εορτή της Αναλήψεως. Μέχρι την ημέρα αυτή η Θ. Λειτουργία θα τελείται επάνω στο απλωμένο Σώμα του Επιταφίου</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τά την Ανάληψη το σώμα του Επιταφίου φυλάγεται σε ορισμένο μέρος μέχρι την επόμενη Μ. Παρασκευή</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Σταυρός επίσης παραμένει χωρίς το σώμα του εσταυρωμένου 40 ημέρες</a:t>
            </a:r>
            <a:endParaRPr b="0" lang="en-US" sz="2000" spc="-1" strike="noStrike">
              <a:solidFill>
                <a:srgbClr val="ffffff"/>
              </a:solidFill>
              <a:latin typeface="Arial"/>
            </a:endParaRPr>
          </a:p>
        </p:txBody>
      </p:sp>
      <p:pic>
        <p:nvPicPr>
          <p:cNvPr id="89" name="Picture 5"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Λίγο πρίν τα μεσάνυχτα του Σαββάτου όλα τα φώτα του Ναού σβήνου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κείνη τη στιγμή ανοίγει η πύλη ως ένδειξη του ανοίγματος του τάφου</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Ιερεύς προβάλει στην Ωραία Πύλη και κρατώντας αναμμένη λαμπάδα που άναψε από το ακοίμητο κανδήλι του Ιερού ψάλει πανηγυρικά</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ύτε λάβετε  φώς εκ του ανεσπέρου φωτός και δοξάσατε Χριστόν τον αναστάντα εκ νεκρών»</a:t>
            </a:r>
            <a:endParaRPr b="0" lang="en-US" sz="2000" spc="-1" strike="noStrike">
              <a:solidFill>
                <a:srgbClr val="ffffff"/>
              </a:solidFill>
              <a:latin typeface="Arial"/>
            </a:endParaRPr>
          </a:p>
        </p:txBody>
      </p:sp>
      <p:pic>
        <p:nvPicPr>
          <p:cNvPr id="91" name="Picture 5" descr=""/>
          <p:cNvPicPr/>
          <p:nvPr/>
        </p:nvPicPr>
        <p:blipFill>
          <a:blip r:embed="rId1"/>
          <a:stretch/>
        </p:blipFill>
        <p:spPr>
          <a:xfrm>
            <a:off x="4648320" y="1676520"/>
            <a:ext cx="4194000" cy="44226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ειτα ο Ιερέας ,ψάλτες, παιδιά του ιερού ,πιστοί σχηματίζουν πομπή που κατευθύνεται έξω στον περίβολο του Ναού.</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ν Λιτανεία αυτή ψάλλομε «την ανάστασίν Σου  Χριστέ Σωτήρ Άγγελοι υμνούσιν εν ουρανοίς και ημάς τους επι γής καταξίωσον εν καθαρά καρδία σε δοξάζειν»</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ανείς δεν μένει μέσα εκτός του νεοκόρου ο οποίος κλείνει και τις Πύλες εισόδου στο ναό (=συμβολισμός της εξορίας μας από τον παράδεισο )</a:t>
            </a:r>
            <a:endParaRPr b="0" lang="en-US" sz="2000" spc="-1" strike="noStrike">
              <a:solidFill>
                <a:srgbClr val="ffffff"/>
              </a:solidFill>
              <a:latin typeface="Arial"/>
            </a:endParaRPr>
          </a:p>
        </p:txBody>
      </p:sp>
      <p:pic>
        <p:nvPicPr>
          <p:cNvPr id="93" name="Picture 2" descr="C:\Users\AM\Desktop\Ανώνυμο-1.jpg"/>
          <p:cNvPicPr/>
          <p:nvPr/>
        </p:nvPicPr>
        <p:blipFill>
          <a:blip r:embed="rId1"/>
          <a:stretch/>
        </p:blipFill>
        <p:spPr>
          <a:xfrm>
            <a:off x="4643280" y="0"/>
            <a:ext cx="4500720" cy="68580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πάνω στην εξέδρα γίνεται η πανηγυρική εξαγγελία της Αναστάσεως του Χριστού</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 Ιερέας διαβάζει το Ευαγγέλιο της Αναστάσεως και όλοι μαζί αρχίζουν να ψάλλουν</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Χριστός ανέστη εκ νεκρών θανάτω θάνατον πατήσας και τοις εν τοις μνήμασι ,ζωήν χαρισάμενος»</a:t>
            </a: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Ύστερα σχηματίζεται πάλι ιερή πομπή που κατευθύνεται προς το Ναό</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Όταν φθάσει μπροστά στις κλειστές πύλες γίνεται μια συμβολική αναπαράσταση του ανοίγματος του Παραδείσου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πομπή στέκεται μπρός στις πύλες και ο ιερέας φωνάζει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Άρατε πύλας οι άρχοντες ημών και επάρθητε πύλαι αιώνιοι και εισελεύσεται ο βασιλεύς της δόξης»</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 νεοκόρος μέσα από το ναό ρωτάει</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αι τις έστιν ούτος ο Βασιλεύς της δόξη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 Ιερέας απαντάει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ύριος κραταιός και δυνατός , Κύριος δυνατός εν πολέμω Κύριος των δυνάμεων αυτός έστιν ο βασιλεύς της δόξη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ότε οι πύλες ανοίγουν διάπλατα και η πομπή των πιστών μπαίνει θριαμβευτικά μέσα στο Ναό που συμβολίζει τον ανοιχτό πλέον παράδεισο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7e7ff"/>
                </a:solidFill>
                <a:latin typeface="Arial"/>
              </a:rPr>
              <a:t>2)Η Πασχαλινή Θ. Λειτουργία</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ο Ναό ψάλλεται ο όρθρος της Κυριακής του Πάσχα και στη συνέχεια η Θ. Λειτουργία</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ι πιστοί κοινωνούν σώμα και αίμα Χριστού και ενώνονται έτσι με τον αναστημένο Κύριο</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ις πρωινές ώρες μαζί με όλους τους χριστιανούς επαναλαμβάνουμε θριαμβευτικά</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ΡΙΣΤΟΣ ΑΝΕΣΤΗ---ΑΛΗΘΩΣ ΑΝΕΣΤΗ</a:t>
            </a:r>
            <a:endParaRPr b="0" lang="en-US" sz="2400" spc="-1" strike="noStrike">
              <a:solidFill>
                <a:srgbClr val="ffffff"/>
              </a:solidFill>
              <a:latin typeface="Arial"/>
            </a:endParaRPr>
          </a:p>
        </p:txBody>
      </p:sp>
      <p:pic>
        <p:nvPicPr>
          <p:cNvPr id="99" name="Picture 4" descr=""/>
          <p:cNvPicPr/>
          <p:nvPr/>
        </p:nvPicPr>
        <p:blipFill>
          <a:blip r:embed="rId1"/>
          <a:stretch/>
        </p:blipFill>
        <p:spPr>
          <a:xfrm>
            <a:off x="4788000" y="1700280"/>
            <a:ext cx="4032000" cy="44654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11:17:27Z</dcterms:created>
  <dc:creator>PNP</dc:creator>
  <dc:description/>
  <dc:language>en-US</dc:language>
  <cp:lastModifiedBy>AM</cp:lastModifiedBy>
  <dcterms:modified xsi:type="dcterms:W3CDTF">2010-03-05T20:58:27Z</dcterms:modified>
  <cp:revision>19</cp:revision>
  <dc:subject/>
  <dc:title>Ο ανοιγμένος παράδεισος</dc:title>
</cp:coreProperties>
</file>