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656-5A69-423A-A964-3D7DBD57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7CE-CC3D-4CB2-98BC-B288E083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AAC-F139-41EC-B1E0-DBC1C8CE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B23-B3B0-4F61-91B3-F59F0579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2E8-CEB0-4765-A1D2-6ADD8BC8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1DE-0BEB-4F91-9102-E04CF531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E62-55B8-4BD7-861C-EEDEF5EA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A3D-4659-46BB-A340-D219FE75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134-1749-42B3-B3AE-85A12E51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3A9-BB17-4F04-8550-D0BB48CD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914-AC07-4509-A1D8-6A990DDB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F14-EC7A-4D4E-82A3-C6CDB392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3271-011E-4958-9F4D-B632099DF0A2}" type="slidenum">
              <a:rPr b="0" lang="id-ID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kuatan Lere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Drainage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7"/>
          <p:cNvPicPr/>
          <p:nvPr/>
        </p:nvPicPr>
        <p:blipFill>
          <a:blip r:embed="rId1"/>
          <a:srcRect l="9653" t="0" r="9711" b="14189"/>
          <a:stretch/>
        </p:blipFill>
        <p:spPr>
          <a:xfrm>
            <a:off x="826920" y="2492280"/>
            <a:ext cx="74901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tr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knik menaikan angka keamanan lereng dengan jalan memberikan gaya-gaya luar yang menahan terjadinya kelongsor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Pemberian counter weight (berm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7"/>
          <p:cNvPicPr/>
          <p:nvPr/>
        </p:nvPicPr>
        <p:blipFill>
          <a:blip r:embed="rId1"/>
          <a:srcRect l="0" t="0" r="0" b="14002"/>
          <a:stretch/>
        </p:blipFill>
        <p:spPr>
          <a:xfrm>
            <a:off x="304920" y="2577960"/>
            <a:ext cx="772956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Pemberian counter weight (berm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7"/>
          <p:cNvPicPr/>
          <p:nvPr/>
        </p:nvPicPr>
        <p:blipFill>
          <a:blip r:embed="rId1"/>
          <a:srcRect l="0" t="0" r="0" b="14313"/>
          <a:stretch/>
        </p:blipFill>
        <p:spPr>
          <a:xfrm>
            <a:off x="1062000" y="2492280"/>
            <a:ext cx="702000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oil Nailing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7"/>
          <p:cNvPicPr/>
          <p:nvPr/>
        </p:nvPicPr>
        <p:blipFill>
          <a:blip r:embed="rId1"/>
          <a:srcRect l="0" t="0" r="0" b="7436"/>
          <a:stretch/>
        </p:blipFill>
        <p:spPr>
          <a:xfrm>
            <a:off x="1752480" y="1281240"/>
            <a:ext cx="586764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oil Nailing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7"/>
          <p:cNvPicPr/>
          <p:nvPr/>
        </p:nvPicPr>
        <p:blipFill>
          <a:blip r:embed="rId1"/>
          <a:srcRect l="0" t="0" r="0" b="5433"/>
          <a:stretch/>
        </p:blipFill>
        <p:spPr>
          <a:xfrm>
            <a:off x="1700280" y="1612800"/>
            <a:ext cx="57420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tone Column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7"/>
          <p:cNvPicPr/>
          <p:nvPr/>
        </p:nvPicPr>
        <p:blipFill>
          <a:blip r:embed="rId1"/>
          <a:srcRect l="0" t="0" r="0" b="10878"/>
          <a:stretch/>
        </p:blipFill>
        <p:spPr>
          <a:xfrm>
            <a:off x="1219320" y="1892160"/>
            <a:ext cx="72388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Geosynthetic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7"/>
          <p:cNvPicPr/>
          <p:nvPr/>
        </p:nvPicPr>
        <p:blipFill>
          <a:blip r:embed="rId1"/>
          <a:srcRect l="17869" t="0" r="16648" b="13658"/>
          <a:stretch/>
        </p:blipFill>
        <p:spPr>
          <a:xfrm>
            <a:off x="1763640" y="2068560"/>
            <a:ext cx="554364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Geosynthetic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1"/>
          <p:cNvPicPr/>
          <p:nvPr/>
        </p:nvPicPr>
        <p:blipFill>
          <a:blip r:embed="rId1"/>
          <a:srcRect l="40996" t="59560" r="5242" b="8556"/>
          <a:stretch/>
        </p:blipFill>
        <p:spPr>
          <a:xfrm>
            <a:off x="2016000" y="2276640"/>
            <a:ext cx="5112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Dinding Penahan Tanah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7"/>
          <p:cNvPicPr/>
          <p:nvPr/>
        </p:nvPicPr>
        <p:blipFill>
          <a:blip r:embed="rId1"/>
          <a:srcRect l="0" t="0" r="0" b="11290"/>
          <a:stretch/>
        </p:blipFill>
        <p:spPr>
          <a:xfrm>
            <a:off x="1614600" y="1989000"/>
            <a:ext cx="591480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jadinya Kelongso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tambahnya tegangan yang beker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kurangnya kuat geser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84480" y="3238560"/>
            <a:ext cx="41162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Dinding Penahan Tanah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1"/>
          <p:cNvPicPr/>
          <p:nvPr/>
        </p:nvPicPr>
        <p:blipFill>
          <a:blip r:embed="rId1"/>
          <a:srcRect l="0" t="0" r="0" b="50232"/>
          <a:stretch/>
        </p:blipFill>
        <p:spPr>
          <a:xfrm>
            <a:off x="1905120" y="1719360"/>
            <a:ext cx="525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Dinding Penahan Tanah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7"/>
          <p:cNvPicPr/>
          <p:nvPr/>
        </p:nvPicPr>
        <p:blipFill>
          <a:blip r:embed="rId1"/>
          <a:srcRect l="0" t="0" r="0" b="8129"/>
          <a:stretch/>
        </p:blipFill>
        <p:spPr>
          <a:xfrm>
            <a:off x="1219320" y="1981080"/>
            <a:ext cx="63817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Dinding Penahan Tanah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1"/>
          <p:cNvPicPr/>
          <p:nvPr/>
        </p:nvPicPr>
        <p:blipFill>
          <a:blip r:embed="rId1"/>
          <a:srcRect l="0" t="48829" r="0" b="-1210"/>
          <a:stretch/>
        </p:blipFill>
        <p:spPr>
          <a:xfrm>
            <a:off x="2438280" y="1677960"/>
            <a:ext cx="51055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nding Penahan Tan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103480" y="2054160"/>
            <a:ext cx="4936680" cy="4327200"/>
            <a:chOff x="2103480" y="2054160"/>
            <a:chExt cx="4936680" cy="4327200"/>
          </a:xfrm>
        </p:grpSpPr>
        <p:pic>
          <p:nvPicPr>
            <p:cNvPr id="88" name="Picture 4" descr="1"/>
            <p:cNvPicPr/>
            <p:nvPr/>
          </p:nvPicPr>
          <p:blipFill>
            <a:blip r:embed="rId1"/>
            <a:srcRect l="2811" t="43038" r="49348" b="20039"/>
            <a:stretch/>
          </p:blipFill>
          <p:spPr>
            <a:xfrm>
              <a:off x="2103480" y="2054160"/>
              <a:ext cx="4936680" cy="43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5"/>
            <p:cNvSpPr/>
            <p:nvPr/>
          </p:nvSpPr>
          <p:spPr>
            <a:xfrm>
              <a:off x="5845320" y="5185080"/>
              <a:ext cx="1194480" cy="49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ktor-faktor yang menyebabkan bertambahnya tegangan yang beker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tambahnya beb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kibat hujan, timbunan, bangun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tambahnya tekanan later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kibat adanya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ses volca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langnya tahanan later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kibat erosi, penggalian, hilangnya struktur penahan, proses kering dan basah yang berulang-ul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ktor-faktor yang menyebabkan berkurangnya kuat geser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kurangnya tegangan efek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garuh Tekanan air p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ubahnya struktur yang 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Beberapa cara Perbaikan/Perkuatan Lere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oading (gali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in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r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kua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nding Penahan Tan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Mengurangi beban yang bekerja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7"/>
          <p:cNvPicPr/>
          <p:nvPr/>
        </p:nvPicPr>
        <p:blipFill>
          <a:blip r:embed="rId1"/>
          <a:srcRect l="0" t="0" r="0" b="13815"/>
          <a:stretch/>
        </p:blipFill>
        <p:spPr>
          <a:xfrm>
            <a:off x="533520" y="2362320"/>
            <a:ext cx="79675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Melandaikan lereng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7"/>
          <p:cNvPicPr/>
          <p:nvPr/>
        </p:nvPicPr>
        <p:blipFill>
          <a:blip r:embed="rId1"/>
          <a:srcRect l="0" t="0" r="0" b="10267"/>
          <a:stretch/>
        </p:blipFill>
        <p:spPr>
          <a:xfrm>
            <a:off x="1219320" y="1676520"/>
            <a:ext cx="67705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Kemiringan bertahap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7"/>
          <p:cNvPicPr/>
          <p:nvPr/>
        </p:nvPicPr>
        <p:blipFill>
          <a:blip r:embed="rId1"/>
          <a:srcRect l="0" t="0" r="0" b="13317"/>
          <a:stretch/>
        </p:blipFill>
        <p:spPr>
          <a:xfrm>
            <a:off x="838080" y="2139840"/>
            <a:ext cx="76964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Drainage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7"/>
          <p:cNvPicPr/>
          <p:nvPr/>
        </p:nvPicPr>
        <p:blipFill>
          <a:blip r:embed="rId1"/>
          <a:srcRect l="0" t="0" r="0" b="25097"/>
          <a:stretch/>
        </p:blipFill>
        <p:spPr>
          <a:xfrm>
            <a:off x="304920" y="2217600"/>
            <a:ext cx="76723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3:02:35Z</dcterms:created>
  <dc:creator>RIFQI</dc:creator>
  <dc:description/>
  <dc:language>en-US</dc:language>
  <cp:lastModifiedBy>RIFQI</cp:lastModifiedBy>
  <dcterms:modified xsi:type="dcterms:W3CDTF">2013-02-06T03:03:31Z</dcterms:modified>
  <cp:revision>1</cp:revision>
  <dc:subject/>
  <dc:title>Perkuatan Lereng</dc:title>
</cp:coreProperties>
</file>