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353A-C3C4-4BBF-B1FA-20A78790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CEB4-6293-491E-91C4-A12FCF88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26D0-08DA-4EDB-97B7-531C4536F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DDB1-6A98-43A2-968B-823F10BE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7157-7F2A-4D30-82A9-0C61741A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88D9-FB51-495A-847C-FFA0D77D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603D-B3E1-4641-A1B6-A7782F7D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E9C7-4411-43ED-A1C8-D0911D43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4400-D620-43F2-8077-D9EC5B6D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0095-8283-4D9D-99A4-EDEFE2B5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ACA5-D551-4C86-96DA-80A1EFE5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5910-D458-4F7A-8EAA-1D4F8607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F545-ADA8-4B1A-879B-EA830CC5EF37}" type="slidenum">
              <a:rPr b="0" lang="id-ID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kuatan Lere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Drainage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7"/>
          <p:cNvPicPr/>
          <p:nvPr/>
        </p:nvPicPr>
        <p:blipFill>
          <a:blip r:embed="rId1"/>
          <a:srcRect l="9653" t="0" r="9711" b="14189"/>
          <a:stretch/>
        </p:blipFill>
        <p:spPr>
          <a:xfrm>
            <a:off x="826920" y="2492280"/>
            <a:ext cx="749016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tres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knik menaikan angka keamanan lereng dengan jalan memberikan gaya-gaya luar yang menahan terjadinya kelongsor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Pemberian counter weight (berm)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7"/>
          <p:cNvPicPr/>
          <p:nvPr/>
        </p:nvPicPr>
        <p:blipFill>
          <a:blip r:embed="rId1"/>
          <a:srcRect l="0" t="0" r="0" b="14002"/>
          <a:stretch/>
        </p:blipFill>
        <p:spPr>
          <a:xfrm>
            <a:off x="304920" y="2577960"/>
            <a:ext cx="7729560" cy="28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Pemberian counter weight (berm)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7"/>
          <p:cNvPicPr/>
          <p:nvPr/>
        </p:nvPicPr>
        <p:blipFill>
          <a:blip r:embed="rId1"/>
          <a:srcRect l="0" t="0" r="0" b="14313"/>
          <a:stretch/>
        </p:blipFill>
        <p:spPr>
          <a:xfrm>
            <a:off x="1062000" y="2492280"/>
            <a:ext cx="7020000" cy="28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oil Nailing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7"/>
          <p:cNvPicPr/>
          <p:nvPr/>
        </p:nvPicPr>
        <p:blipFill>
          <a:blip r:embed="rId1"/>
          <a:srcRect l="0" t="0" r="0" b="7436"/>
          <a:stretch/>
        </p:blipFill>
        <p:spPr>
          <a:xfrm>
            <a:off x="1752480" y="1281240"/>
            <a:ext cx="586764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oil Nailing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7"/>
          <p:cNvPicPr/>
          <p:nvPr/>
        </p:nvPicPr>
        <p:blipFill>
          <a:blip r:embed="rId1"/>
          <a:srcRect l="0" t="0" r="0" b="5433"/>
          <a:stretch/>
        </p:blipFill>
        <p:spPr>
          <a:xfrm>
            <a:off x="1700280" y="1612800"/>
            <a:ext cx="574200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tone Columns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7"/>
          <p:cNvPicPr/>
          <p:nvPr/>
        </p:nvPicPr>
        <p:blipFill>
          <a:blip r:embed="rId1"/>
          <a:srcRect l="0" t="0" r="0" b="10878"/>
          <a:stretch/>
        </p:blipFill>
        <p:spPr>
          <a:xfrm>
            <a:off x="1219320" y="1892160"/>
            <a:ext cx="723888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Geosynthetics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7"/>
          <p:cNvPicPr/>
          <p:nvPr/>
        </p:nvPicPr>
        <p:blipFill>
          <a:blip r:embed="rId1"/>
          <a:srcRect l="17869" t="0" r="16648" b="13658"/>
          <a:stretch/>
        </p:blipFill>
        <p:spPr>
          <a:xfrm>
            <a:off x="1763640" y="2068560"/>
            <a:ext cx="554364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Geosynthetics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1"/>
          <p:cNvPicPr/>
          <p:nvPr/>
        </p:nvPicPr>
        <p:blipFill>
          <a:blip r:embed="rId1"/>
          <a:srcRect l="40996" t="59560" r="5242" b="8556"/>
          <a:stretch/>
        </p:blipFill>
        <p:spPr>
          <a:xfrm>
            <a:off x="2016000" y="2276640"/>
            <a:ext cx="511200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Dinding Penahan Tanah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7"/>
          <p:cNvPicPr/>
          <p:nvPr/>
        </p:nvPicPr>
        <p:blipFill>
          <a:blip r:embed="rId1"/>
          <a:srcRect l="0" t="0" r="0" b="11290"/>
          <a:stretch/>
        </p:blipFill>
        <p:spPr>
          <a:xfrm>
            <a:off x="1614600" y="1989000"/>
            <a:ext cx="591480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jadinya Kelongsor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tambahnya tegangan yang beker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kurangnya kuat geser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184480" y="3238560"/>
            <a:ext cx="411624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Dinding Penahan Tanah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1"/>
          <p:cNvPicPr/>
          <p:nvPr/>
        </p:nvPicPr>
        <p:blipFill>
          <a:blip r:embed="rId1"/>
          <a:srcRect l="0" t="0" r="0" b="50232"/>
          <a:stretch/>
        </p:blipFill>
        <p:spPr>
          <a:xfrm>
            <a:off x="1905120" y="1719360"/>
            <a:ext cx="525780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Dinding Penahan Tanah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7"/>
          <p:cNvPicPr/>
          <p:nvPr/>
        </p:nvPicPr>
        <p:blipFill>
          <a:blip r:embed="rId1"/>
          <a:srcRect l="0" t="0" r="0" b="8129"/>
          <a:stretch/>
        </p:blipFill>
        <p:spPr>
          <a:xfrm>
            <a:off x="1219320" y="1981080"/>
            <a:ext cx="638172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Dinding Penahan Tanah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1"/>
          <p:cNvPicPr/>
          <p:nvPr/>
        </p:nvPicPr>
        <p:blipFill>
          <a:blip r:embed="rId1"/>
          <a:srcRect l="0" t="48829" r="0" b="-1210"/>
          <a:stretch/>
        </p:blipFill>
        <p:spPr>
          <a:xfrm>
            <a:off x="2438280" y="1677960"/>
            <a:ext cx="510552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nding Penahan Tana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Group 3"/>
          <p:cNvGrpSpPr/>
          <p:nvPr/>
        </p:nvGrpSpPr>
        <p:grpSpPr>
          <a:xfrm>
            <a:off x="2103480" y="2054160"/>
            <a:ext cx="4936680" cy="4327200"/>
            <a:chOff x="2103480" y="2054160"/>
            <a:chExt cx="4936680" cy="4327200"/>
          </a:xfrm>
        </p:grpSpPr>
        <p:pic>
          <p:nvPicPr>
            <p:cNvPr id="88" name="Picture 4" descr="1"/>
            <p:cNvPicPr/>
            <p:nvPr/>
          </p:nvPicPr>
          <p:blipFill>
            <a:blip r:embed="rId1"/>
            <a:srcRect l="2811" t="43038" r="49348" b="20039"/>
            <a:stretch/>
          </p:blipFill>
          <p:spPr>
            <a:xfrm>
              <a:off x="2103480" y="2054160"/>
              <a:ext cx="4936680" cy="43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Rectangle 5"/>
            <p:cNvSpPr/>
            <p:nvPr/>
          </p:nvSpPr>
          <p:spPr>
            <a:xfrm>
              <a:off x="5845320" y="5185080"/>
              <a:ext cx="1194480" cy="49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ktor-faktor yang menyebabkan bertambahnya tegangan yang beker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rtambahnya beba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akibat hujan, timbunan, bangun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rtambahnya tekanan latera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akibat adanya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ses volcan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langnya tahanan latera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akibat erosi, penggalian, hilangnya struktur penahan, proses kering dan basah yang berulang-ula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ktor-faktor yang menyebabkan berkurangnya kuat geser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kurangnya tegangan efekti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ngaruh Tekanan air po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ubahnya struktur yang 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Beberapa cara Perbaikan/Perkuatan Lereng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loading (galia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in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tr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kuat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nding Penahan Tan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Mengurangi beban yang bekerja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7"/>
          <p:cNvPicPr/>
          <p:nvPr/>
        </p:nvPicPr>
        <p:blipFill>
          <a:blip r:embed="rId1"/>
          <a:srcRect l="0" t="0" r="0" b="13815"/>
          <a:stretch/>
        </p:blipFill>
        <p:spPr>
          <a:xfrm>
            <a:off x="533520" y="2362320"/>
            <a:ext cx="796752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Melandaikan lereng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7"/>
          <p:cNvPicPr/>
          <p:nvPr/>
        </p:nvPicPr>
        <p:blipFill>
          <a:blip r:embed="rId1"/>
          <a:srcRect l="0" t="0" r="0" b="10267"/>
          <a:stretch/>
        </p:blipFill>
        <p:spPr>
          <a:xfrm>
            <a:off x="1219320" y="1676520"/>
            <a:ext cx="677052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Kemiringan bertahap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7"/>
          <p:cNvPicPr/>
          <p:nvPr/>
        </p:nvPicPr>
        <p:blipFill>
          <a:blip r:embed="rId1"/>
          <a:srcRect l="0" t="0" r="0" b="13317"/>
          <a:stretch/>
        </p:blipFill>
        <p:spPr>
          <a:xfrm>
            <a:off x="838080" y="2139840"/>
            <a:ext cx="76964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Drainage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7"/>
          <p:cNvPicPr/>
          <p:nvPr/>
        </p:nvPicPr>
        <p:blipFill>
          <a:blip r:embed="rId1"/>
          <a:srcRect l="0" t="0" r="0" b="25097"/>
          <a:stretch/>
        </p:blipFill>
        <p:spPr>
          <a:xfrm>
            <a:off x="304920" y="2217600"/>
            <a:ext cx="76723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03:02:35Z</dcterms:created>
  <dc:creator>RIFQI</dc:creator>
  <dc:description/>
  <dc:language>en-US</dc:language>
  <cp:lastModifiedBy>RIFQI</cp:lastModifiedBy>
  <dcterms:modified xsi:type="dcterms:W3CDTF">2013-02-06T03:03:31Z</dcterms:modified>
  <cp:revision>1</cp:revision>
  <dc:subject/>
  <dc:title>Perkuatan Lereng</dc:title>
</cp:coreProperties>
</file>