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Thats%20Amore.wav" ContentType="audio/x-wav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442-A4AB-4970-AB7A-B6AE363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558-4B27-4BCD-A7B4-E994086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D52-FE55-4AC8-BB46-743D8EDC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40E-5C05-41C0-A7CC-C80D0D2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3AD-5B75-4257-B024-76CED09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8C8-2530-40E2-9138-AEA05DE9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213-921D-4159-9F87-4F6DB4C3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75C-17F2-45A7-A9E3-B835038C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FC6-B38A-44E0-B57D-0856FE6C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1B8-B82E-4AB1-A749-6F6D2D0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192-87B2-4061-8EF8-B3E41FF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728-01D1-4343-B560-85A8EEF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3823-666D-4E4F-9BF9-F0697E020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ats%20Amor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692280"/>
            <a:ext cx="5688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's Amo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3166920"/>
            <a:ext cx="72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 Napoli where love is K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63640" y="450864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ng : Dean Mart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623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99ff"/>
                </a:solidFill>
                <a:latin typeface="Arial"/>
              </a:rPr>
              <a:t>Powerpoint : Desmet Pi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8424720" cy="431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57340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1" lang="nl-BE" sz="2000" spc="-1" strike="noStrike">
                <a:solidFill>
                  <a:srgbClr val="ffffff"/>
                </a:solidFill>
                <a:latin typeface="Book Antiqua"/>
              </a:rPr>
              <a:t>Scusa me, but you see, back in Old Napoli, that’s A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 like a big-a pizza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80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s Amore……………..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87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……THAT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4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World seems to shine like you’ve had too much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856908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37372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ells will ring, ting-a-ling, ting a -ling-a-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And you’ll sing “Vita Bella…Vita bella… Vita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5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5589720"/>
            <a:ext cx="8569080" cy="57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arts will play tippi-tippi-tay, tippi-tippi-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734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gay tarentella - Lucky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76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stars make you drool just-a like pasta fa-z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87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…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765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49600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476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dance down the street with a cloud at you’r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5950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You’re i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51664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walk in a 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95008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ut you know youre not dream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S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98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95008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5440" y="5950080"/>
            <a:ext cx="57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3336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Scusa me, but you see, back in Old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s amore..amoré, THAT’S AMORE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1197000"/>
            <a:ext cx="4321440" cy="47530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602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boy meet 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6021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re’s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2144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1280" y="1125360"/>
            <a:ext cx="4321440" cy="4824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836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91440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9144000" cy="57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765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7340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big-a pizza pie,  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5877000"/>
            <a:ext cx="856908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849780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76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World seems to s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you’ve had to much wine…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84978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8496000" cy="6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ells will ring ting-a-ling-a-ling; ting-a-ling-a-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66100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7340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And you’ll sing “Vita Bel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6021360"/>
            <a:ext cx="807084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57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404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arts’ll play tippi-tippi-tay, tippi-tippi-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93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gay taran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04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stars make you drool just-a like pasta fa-z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5734080"/>
            <a:ext cx="821844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496000" cy="36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dance down the street with a cloud at your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73408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YOU’RE  IN 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501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walk in a dream but you know you’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57340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Not dreamin’,   S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0:50:16Z</dcterms:created>
  <dc:creator>Desmet</dc:creator>
  <dc:description/>
  <dc:language>en-US</dc:language>
  <cp:lastModifiedBy>Smets</cp:lastModifiedBy>
  <dcterms:modified xsi:type="dcterms:W3CDTF">2008-10-04T17:58:01Z</dcterms:modified>
  <cp:revision>16</cp:revision>
  <dc:subject/>
  <dc:title>Dia 1</dc:title>
</cp:coreProperties>
</file>