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5.jpeg" ContentType="image/jpeg"/>
  <Override PartName="/ppt/media/image4.jpeg" ContentType="image/jpeg"/>
  <Override PartName="/ppt/media/image21.gif" ContentType="image/gif"/>
  <Override PartName="/ppt/media/Thats%20Amore.wav" ContentType="audio/x-wav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581C-7428-4AFD-8059-B4DC39A7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3B2B-8311-4862-86DB-1DF099C4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9ACD-D7B3-4F15-8A01-0B53C2079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7DA8-F60E-481B-B7F1-C9DD07BCA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3057-D65B-4BB7-B507-0A97B560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CB8C-2B5B-4A9B-85B2-003EE2C5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1FDB-99C9-4C38-8BA5-628EA379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9A9E-0268-4F97-B07B-C70A82AA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60F2-308F-4BF3-A52B-1BB19E2D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C2A9-77D4-4973-99ED-20B1DC14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1BAA-1FD1-4086-B684-91B2C48E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9DC6-3002-4DD6-AE72-9934AE13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A011-FA08-46C5-AC44-68369BA94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hats%20Amore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92360" y="692280"/>
            <a:ext cx="568800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t's Amor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71640" y="3166920"/>
            <a:ext cx="7200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n Napoli where love is King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63640" y="4508640"/>
            <a:ext cx="5545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ang : Dean Marti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/>
          <p:nvPr/>
        </p:nvSpPr>
        <p:spPr>
          <a:xfrm>
            <a:off x="3851280" y="623736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99ff"/>
                </a:solidFill>
                <a:latin typeface="Arial"/>
              </a:rPr>
              <a:t>Powerpoint : Desmet Pier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8424720" cy="431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95280" y="573408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ffffff"/>
                </a:solidFill>
                <a:latin typeface="Book Antiqua"/>
              </a:rPr>
              <a:t>‘</a:t>
            </a:r>
            <a:r>
              <a:rPr b="1" lang="nl-BE" sz="2000" spc="-1" strike="noStrike">
                <a:solidFill>
                  <a:srgbClr val="ffffff"/>
                </a:solidFill>
                <a:latin typeface="Book Antiqua"/>
              </a:rPr>
              <a:t>Scusa me, but you see, back in Old Napoli, that’s A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3333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When the moon hits your eyes like a big-a pizza 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580536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Thats Amore……………..THAT’S A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587700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That’s amore……THATS A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03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549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When the World seems to shine like you’ve had too much w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0920" y="5300640"/>
            <a:ext cx="8569080" cy="576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50920" y="5373720"/>
            <a:ext cx="864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Bells will ring, ting-a-ling, ting a -ling-a-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And you’ll sing “Vita Bella…Vita bella… Vita B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8713800" cy="576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24000" y="5589720"/>
            <a:ext cx="8569080" cy="576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4000" y="620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Hearts will play tippi-tippi-tay, tippi-tippi-t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57340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Like a gay tarentella - Lucky B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47628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When the stars make you drool just-a like pasta fa-z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587700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That’s amore…THAT’S A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280360" cy="765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24000" y="5877000"/>
            <a:ext cx="8496000" cy="647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9280" y="47628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When you dance down the street with a cloud at you’r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59500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You’re in 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92360" y="5516640"/>
            <a:ext cx="554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When you walk in a d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5950080"/>
            <a:ext cx="561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But you know youre not dreamin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SIGN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92200" y="698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92360" y="5950080"/>
            <a:ext cx="74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65440" y="5950080"/>
            <a:ext cx="575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333360"/>
            <a:ext cx="864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‘</a:t>
            </a: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Scusa me, but you see, back in Old Nap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Thats amore..amoré, THAT’S AMORE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340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11280" y="1197000"/>
            <a:ext cx="4321440" cy="47530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260280"/>
            <a:ext cx="72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60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When boy meet gi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602136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Here’s what they 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11280" y="1197000"/>
            <a:ext cx="4321440" cy="4753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11280" y="1125360"/>
            <a:ext cx="4321440" cy="48247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83664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When the Moon hits your ey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5589720"/>
            <a:ext cx="9144000" cy="647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692280"/>
            <a:ext cx="9144000" cy="576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042920" y="76500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When the Moon hits your e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573408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Like a big-a pizza pie,  That’s A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5877000"/>
            <a:ext cx="8569080" cy="647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95280" y="692280"/>
            <a:ext cx="8497800" cy="576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11280" y="76500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When the World seems to s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9500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Like you’ve had to much wine…that’s A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50920" y="5589720"/>
            <a:ext cx="8497800" cy="647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24000" y="404640"/>
            <a:ext cx="8496000" cy="64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476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Bells will ring ting-a-ling-a-ling; ting-a-ling-a-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661000"/>
            <a:ext cx="85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73408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And you’ll sing “Vita Bell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33520" y="6021360"/>
            <a:ext cx="8070840" cy="576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8569080" cy="574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4000" y="404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Hearts’ll play tippi-tippi-tay, tippi-tippi-t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609300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Like a gay tarant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4046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When the stars make you drool just-a like pasta fa-z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58053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THAT’S A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" y="5734080"/>
            <a:ext cx="8218440" cy="503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24000" y="476280"/>
            <a:ext cx="8496000" cy="360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68360" y="33336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When you dance down the street with a cloud at your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5734080"/>
            <a:ext cx="77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YOU’RE  IN  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0920" y="50133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When you walk in a dream but you know you’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57340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Book Antiqua"/>
              </a:rPr>
              <a:t>Not dreamin’,   Sign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9T10:50:16Z</dcterms:created>
  <dc:creator>Desmet</dc:creator>
  <dc:description/>
  <dc:language>en-US</dc:language>
  <cp:lastModifiedBy>Smets</cp:lastModifiedBy>
  <dcterms:modified xsi:type="dcterms:W3CDTF">2008-10-04T17:58:01Z</dcterms:modified>
  <cp:revision>16</cp:revision>
  <dc:subject/>
  <dc:title>Dia 1</dc:title>
</cp:coreProperties>
</file>