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0EC-51BD-4D16-BA02-54BF81FF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39F-43A3-4A18-A8F8-5217A5D4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F02-F3C7-4244-A08D-3F1D10A6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1D5-87DD-4B23-8B4C-7DAB2B45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119-A176-4734-93CE-C37CD38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766-DC60-43DC-BC5F-B048584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CBF-D3F8-4F3B-903D-F20CE00F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E0F-4FDD-49EF-BD3E-A38EAA6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C4-BC77-4004-B3EC-7674E05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426-602E-43D4-84DC-DF13716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F4E-000B-40DA-A550-F607B70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D48-5872-4200-8A8F-364FB4B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352-FCC6-4A17-AA5E-42E3D68681C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15628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197360" y="480600"/>
            <a:ext cx="4463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ANCANGAN PENGAJARAN DAN PEMBELAJARAN SEME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URIKUL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MESTER  ______</a:t>
            </a:r>
            <a:r>
              <a:rPr b="1" lang="sv-SE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  </a:t>
            </a:r>
            <a:r>
              <a:rPr b="0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HUN ____</a:t>
            </a:r>
            <a:r>
              <a:rPr b="1" lang="sv-SE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017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620640" y="1336680"/>
            <a:ext cx="5832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a Pensyarah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MOHD RIZUAN BIN ABD RAS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Jabatan/Unit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JABATAN PENDIDIKAN ISLAM DAN M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ursus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SENI DALAM PENDIDIK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od Kursus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BAMB30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redit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umpulan Diajar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PISMP BAHASA ARAB AMBILAN JUN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20640" y="2556000"/>
          <a:ext cx="5761080" cy="599112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08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- 6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r" rtl="1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التمهيد للفنون في الترب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المفهوم ونظريات التعلي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فهوم ، الغاية ، أهداف تعليم الفنو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إلى معلمي 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تعدد الذكا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البنا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” هوكا هوكي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”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الإبدا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همية الفنو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همية الفن التصوري ، العاطفي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عبيري والإبداع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عليم الأمثل / الأفضل ، التكام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متع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أطفال ، الحواس والفنو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بادئ الاحتياجات والرغبات الجسم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العاطفية والروحية والذهنية والتعامل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الجمالية للأطفال والمراهق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نمو لحاسة الحواس عند الأطفا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لم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سم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نظ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ذوق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رائح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Jan 2017 – Cuti Tahun Baru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0640" y="785880"/>
          <a:ext cx="5761080" cy="736452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0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– 13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نغم , اللون و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مل بالنشاطات الاستكشافية بطريقة الإبداع لغرض توصيل الفكرة عن طريق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نغ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ل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القيام بالنشاطات حسة الحواس والف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0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– 20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نغم , اللون و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مل بالنشاطات الاستكشافية بطريقة الإبداع لغرض توصيل الفكرة عن طريق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نغ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ل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القيام بالنشاطات حسة الحواس والف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 ULANG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96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2 Julai 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علم ومهارة الفن في الترب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*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فن المر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أسان علم الفن الاختراعي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عناصر علم الفن ومبادئ الاخترا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أربع مجالات من علم الف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1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ص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2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طر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3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خترا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4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شكيل والبناء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ف على المهنة اليدوية التقليدية في المدارس الابتدائ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 ULANG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31 JAN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I TAHUN BARU 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3-25 JAN 2017 – KULIAH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20640" y="555480"/>
          <a:ext cx="5761080" cy="766764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90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JAN – 3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علم ومهارة الف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فن المرئ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أربع مجالات من علم الف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3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خترا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4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شكيل والبناء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ف على المهنة اليدوية التقليدية في 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31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I TAHUN BARU C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-3 FEB 2017 – KULIAH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10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لم ومهارة الف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وسيق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الموسيق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KTIKUM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EM 1 TAHUN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 FEB – 1 ME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EM 2 TAHUN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FEB – 3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06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7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لم ومهارة الف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وسيقى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المهارة الموسيقية الأساسية خلال إلقاء الغناء وكتابة الكلمات ولعب الآلات المرتجلة في النغمات والألحان والتعبير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مفهوم 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الأبدا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الفرا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قيمة 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العلاق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FEB – 3 MA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حرك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ف على مهارة الحركات الأساس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هارة الفعل التحرك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هارة غير الفعل التحرك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عمال الآل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0640" y="642960"/>
          <a:ext cx="5761080" cy="774864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0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0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ات واكتساب الخبرة والتعبير من خلال الف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الآلة والموا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الأفكار والمحتو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طريقة الإرادة والتصنيع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التلاع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 بطريقة التكنولوج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علومات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كتساب الخبرة من خلا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راتيجية والأنشطة المختلف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تجاهات والمسافات المختلف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باستخدام الموسيقى والفنون البصر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الحرك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كتابة التفكر وتسجيل حركة رد الفع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بي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تعبير الشعور من خلال تعبير الطي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الأفكار والمعلومات المختلفة م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خلال الأنشطة الإبداعية الفنون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بصرية والموسيى و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صف طبيعة الآثار التعبيرية في الفنو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بصرية والموسيقى و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خدام الأنشطة الإبدائية للفنو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بصرية والموسيقى والحركة لغرض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بير والاتصا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ناقشة الرد وشعور النفس نحو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أشكال التعبير المختلفة وتتص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بمحتوى الدر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K 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0640" y="642960"/>
          <a:ext cx="5761080" cy="751536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7 MA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Pelajar menghadiri PBS di sekolah pilihan pelaj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 1 ( Sem 2 Thn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 3 ( Sem 2 Tahun 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 MA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CUTI PERTENGAHAN PENGGA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31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ات واكتساب الخبرة والتعبير من خلال الف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كتساب الخبر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بي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73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APRIL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طبيق وإجراء الأنشطة التعليمية والتعلمية في تربية اللغة الع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يض بمبدأ التكام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بادئ ومعاني التكام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قضايا وتحديات التكام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تكامل محتويات الوحدة ، المهارات المتعددة ، العملية واستراتيجيات المواد المختلف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5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p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تكام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راب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متصاص الم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صياغة القي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خصي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حسي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IAN A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APRIL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JOHANAN OLAHRAGA TAHU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50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4 APR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يض للأغراض ( للموضوعات ) والعلاق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ختيار وتعيين الأغراض ( الموضوعات 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ختيار الأغراض ( الموضوعات ) على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حسب نتاج التعلم ، ومهارات الماد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مراحل ورغبات وخلفيات الدار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ربط الفنون البصرية ، والموسيقى والحرك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بدعة لتخصص اللغة العربيةفي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IAN A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April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ytiharan Melaka Bandar Raya Bersejar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ksi/Perkhemahan UB (4H3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Sem 2 Thn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0040" y="979560"/>
          <a:ext cx="6072120" cy="5043240"/>
        </p:xfrm>
        <a:graphic>
          <a:graphicData uri="http://schemas.openxmlformats.org/drawingml/2006/table">
            <a:tbl>
              <a:tblPr/>
              <a:tblGrid>
                <a:gridCol w="758880"/>
                <a:gridCol w="2878200"/>
                <a:gridCol w="863640"/>
                <a:gridCol w="157140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– 21 APR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إنتاج الوسائل المعينة لعملية التعليم والتعلم مع تسريب العناصر الفنية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IFIKASI KERJA KURS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IAN A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-28 APR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إنتاج الأنشطة مع تسويب الفن المرئي ، الموسيقى والحركة في عملية التعليم والتعلم لتخصص اللغة العربية في 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APRIL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RAK &amp; MI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UK MARKAH KERJA KURSUS ( BKKP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5 M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 ULANGKA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EI 20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I PEKER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2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I WES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9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-26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Nov 2016 – 2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I PERTENGAHAN TAH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MEI 2017 – AWAL RAMAD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JUN 2017 – HARI KEPUTERAAN SERI PADUKA YDP AG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285840" y="86439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07880" y="6000840"/>
            <a:ext cx="423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100" spc="-1" strike="noStrike">
                <a:solidFill>
                  <a:srgbClr val="000000"/>
                </a:solidFill>
                <a:latin typeface="Calibri"/>
              </a:rPr>
              <a:t>Catatan : Rancangan ini tertakluk pada pindaan</a:t>
            </a:r>
            <a:r>
              <a:rPr b="0" lang="fi-FI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04640" y="6611760"/>
            <a:ext cx="338472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datangan Pensy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ama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HD RIZUAN BIN ABD RAS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ikh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833640" y="6156360"/>
            <a:ext cx="2980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sahkan oleh Ketua Jab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datang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ama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 Jabat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ikh: 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3:56:17Z</dcterms:created>
  <dc:creator>End User</dc:creator>
  <dc:description/>
  <dc:language>en-US</dc:language>
  <cp:lastModifiedBy>rizuanrasip</cp:lastModifiedBy>
  <dcterms:modified xsi:type="dcterms:W3CDTF">2017-09-18T00:49:56Z</dcterms:modified>
  <cp:revision>104</cp:revision>
  <dc:subject/>
  <dc:title>Slide 1</dc:title>
</cp:coreProperties>
</file>