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6DE8-BD4B-4E68-A797-7E214143E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9863-6B02-49CF-B1C8-6BBF29A5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4F28-E9C4-415A-B0B1-FA94C414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D106-BB13-4418-80F7-2582A8424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9513-63CF-4614-AA2E-22104F5F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60E9-82B9-4F40-9B52-CAFF0001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519C-5CA3-40BE-B917-32335E48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A464-F013-4D2D-86AB-29DF0246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2340-01ED-4201-BAFC-9D0F9C3D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C219-AFB3-4544-B441-523936CF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D0D9-421D-4165-8165-5BB6867F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F1E5-F375-4936-B53C-46DD0DF8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615F-66F4-496A-A694-5A65597A55AA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5156280" y="179280"/>
            <a:ext cx="172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LAM-PT-05-0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1197360" y="480600"/>
            <a:ext cx="446328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RANCANGAN PENGAJARAN DAN PEMBELAJARAN SEMES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KURIKUL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EMESTER  ______</a:t>
            </a:r>
            <a:r>
              <a:rPr b="1" lang="sv-SE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1</a:t>
            </a:r>
            <a:r>
              <a:rPr b="1" lang="sv-S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  </a:t>
            </a:r>
            <a:r>
              <a:rPr b="0" lang="sv-S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TAHUN ____</a:t>
            </a:r>
            <a:r>
              <a:rPr b="1" lang="sv-SE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2017</a:t>
            </a:r>
            <a:r>
              <a:rPr b="1" lang="sv-S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_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620640" y="1336680"/>
            <a:ext cx="5832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Nama Pensyarah</a:t>
            </a:r>
            <a:r>
              <a:rPr b="1" lang="sv-S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sv-S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sv-S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: MOHD RIZUAN BIN ABD RASI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Jabatan/Unit</a:t>
            </a:r>
            <a:r>
              <a:rPr b="1" lang="fi-FI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i-FI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i-FI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: JABATAN PENDIDIKAN ISLAM DAN MOR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Kursus</a:t>
            </a:r>
            <a:r>
              <a:rPr b="1" lang="fi-FI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i-FI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i-FI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: SENI DALAM PENDIDIK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Kod Kursus</a:t>
            </a:r>
            <a:r>
              <a:rPr b="1" lang="fi-FI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i-FI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i-FI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: BAMB305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Kredit</a:t>
            </a:r>
            <a:r>
              <a:rPr b="1" lang="fi-FI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i-FI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i-FI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: 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Kumpulan Diajar</a:t>
            </a:r>
            <a:r>
              <a:rPr b="1" lang="fi-FI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i-FI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i-FI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: PISMP BAHASA ARAB AMBILAN JUN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20640" y="2556000"/>
          <a:ext cx="5761080" cy="5991120"/>
        </p:xfrm>
        <a:graphic>
          <a:graphicData uri="http://schemas.openxmlformats.org/drawingml/2006/table">
            <a:tbl>
              <a:tblPr/>
              <a:tblGrid>
                <a:gridCol w="720720"/>
                <a:gridCol w="2808360"/>
                <a:gridCol w="934920"/>
                <a:gridCol w="1297080"/>
              </a:tblGrid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ggu/ Tarik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pik/ Taju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m Interak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eminggu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a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0880"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- 6 Jan 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r" rtl="1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التمهيد للفنون في التربي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المفهوم ونظريات التعلي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مفهوم ، الغاية ، أهداف تعليم الفنون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إلى معلمي المدارس الابتدائي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نظريات تعدد الذكاء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نظريات البناء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نظريات ” هوكا هوكي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”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نظريات الإبدا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أهمية الفنون في التربي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أهمية الفن التصوري ، العاطفي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،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تعبيري والإبداعي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تعليم الأمثل / الأفضل ، التكامل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،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ممتع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2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أطفال ، الحواس والفنون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مبادئ الاحتياجات والرغبات الجسمية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والعاطفية والروحية والذهنية والتعاملية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والجمالية للأطفال والمراهق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نمو لحاسة الحواس عند الأطفال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لمس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سم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نظر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تذوق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رائح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Jan 2017 – Cuti Tahun Baru 2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Box 7"/>
          <p:cNvSpPr/>
          <p:nvPr/>
        </p:nvSpPr>
        <p:spPr>
          <a:xfrm>
            <a:off x="260280" y="8532720"/>
            <a:ext cx="86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Julai 20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3"/>
          <p:cNvSpPr/>
          <p:nvPr/>
        </p:nvSpPr>
        <p:spPr>
          <a:xfrm>
            <a:off x="5013360" y="179280"/>
            <a:ext cx="172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LAM-PT-05-0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20640" y="785880"/>
          <a:ext cx="5761080" cy="7364520"/>
        </p:xfrm>
        <a:graphic>
          <a:graphicData uri="http://schemas.openxmlformats.org/drawingml/2006/table">
            <a:tbl>
              <a:tblPr/>
              <a:tblGrid>
                <a:gridCol w="720720"/>
                <a:gridCol w="2808360"/>
                <a:gridCol w="934920"/>
                <a:gridCol w="1297080"/>
              </a:tblGrid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ggu/ Tarik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pik/ Taju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m Interak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eminggu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a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0280"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– 13 Jan 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نغم , اللون والحي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عمل بالنشاطات الاستكشافية بطريقة الإبداع لغرض توصيل الفكرة عن طريق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- النغ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- اللو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- الحي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* القيام بالنشاطات حسة الحواس والف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0280"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 – 20 Jan 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نغم , اللون والحي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عمل بالنشاطات الاستكشافية بطريقة الإبداع لغرض توصيل الفكرة عن طريق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- النغ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- اللو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- الحي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* القيام بالنشاطات حسة الحواس والف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GGU PEPERIKSAAN ULANG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9960"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-22 Julai 2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علم ومهارة الفن في التربي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* 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فن المرئ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 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مدخل إلى أسان علم الفن الاختراعي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عناصر علم الفن ومبادئ الاخترا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مدخل إلى أربع مجالات من علم الفن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1-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تصوي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2-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اطرا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3-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اخترا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4-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تشكيل والبناء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تعرف على المهنة اليدوية التقليدية في المدارس الابتدائ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K 2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GGU PEPERIKSAAN ULANG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-31 JAN 2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TI TAHUN BARU C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23-25 JAN 2017 – KULIAH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TextBox 7"/>
          <p:cNvSpPr/>
          <p:nvPr/>
        </p:nvSpPr>
        <p:spPr>
          <a:xfrm>
            <a:off x="260280" y="8532720"/>
            <a:ext cx="86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Julai 20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5013360" y="179280"/>
            <a:ext cx="172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LAM-PT-05-0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20640" y="555480"/>
          <a:ext cx="5761080" cy="7667640"/>
        </p:xfrm>
        <a:graphic>
          <a:graphicData uri="http://schemas.openxmlformats.org/drawingml/2006/table">
            <a:tbl>
              <a:tblPr/>
              <a:tblGrid>
                <a:gridCol w="720720"/>
                <a:gridCol w="2808360"/>
                <a:gridCol w="934920"/>
                <a:gridCol w="1297080"/>
              </a:tblGrid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ggu/ Tarik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pik/ Taju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m Interak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eminggu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a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9080"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JAN – 3 FEB 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علم ومهارة الفن في التربي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فن المرئي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مدخل إلى أربع مجالات من علم الفن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3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اخترا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4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تشكيل والبناء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تعرف على المهنة اليدوية التقليدية في المدارس الابتدائي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K 2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-31 JAN 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TI TAHUN BARU C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1-3 FEB 2017 – KULIAH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3040"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– 10 FEB 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علم ومهارة الفن في التربي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*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موسيقى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مدخل إلى الموسيقى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K 2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KTIKUM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EM 1 TAHUN 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 FEB – 1 MEI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NSHI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EM 2 TAHUN 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FEB – 3 M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0680"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-17 FEB 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علم ومهارة الفن في التربي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*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موسيقى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مدخل إلى المهارة الموسيقية الأساسية خلال إلقاء الغناء وكتابة الكلمات ولعب الآلات المرتجلة في النغمات والألحان والتعبير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K 2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1480"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24 FEB 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*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حرك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مدخل إلى مفهوم الحرك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معرفة الأبدان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معرفة الفراغ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معرفة قيمة الحرك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معرفة العلاقة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K 2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2280"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FEB – 3 MAC 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*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حركة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تعرف على مهارة الحركات الأساسي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مهارة الفعل التحركي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مهارة غير الفعل التحركي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ستعمال الآلات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K 2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Box 7"/>
          <p:cNvSpPr/>
          <p:nvPr/>
        </p:nvSpPr>
        <p:spPr>
          <a:xfrm>
            <a:off x="260280" y="8532720"/>
            <a:ext cx="86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Julai 20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5013360" y="179280"/>
            <a:ext cx="172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LAM-PT-05-0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20640" y="642960"/>
          <a:ext cx="5761080" cy="7748640"/>
        </p:xfrm>
        <a:graphic>
          <a:graphicData uri="http://schemas.openxmlformats.org/drawingml/2006/table">
            <a:tbl>
              <a:tblPr/>
              <a:tblGrid>
                <a:gridCol w="720720"/>
                <a:gridCol w="2808360"/>
                <a:gridCol w="934920"/>
                <a:gridCol w="1297080"/>
              </a:tblGrid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ggu/ Tarik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pik/ Taju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m Interak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eminggu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a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60280"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10 M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استكشافات واكتساب الخبرة والتعبير من خلال الفن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*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استكشاف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ستكشاف الآلة والمواد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ستكشاف الأفكار والمحتوى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ستكشاف طريقة الإرادة والتصنيع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والتلاعب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ستكشاف  بطريقة التكنولوجية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معلوماتي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*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كتساب الخبرة من خلال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استراتيجية والأنشطة المختلف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اتجاهات والمسافات المختلفة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باستخدام الموسيقى والفنون البصرية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والحركة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كتابة التفكر وتسجيل حركة رد الفعل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*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تعبير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تعبير الشعور من خلال تعبير الطين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والأفكار والمعلومات المختلفة من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خلال الأنشطة الإبداعية الفنونية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بصرية والموسيى والحرك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وصف طبيعة الآثار التعبيرية في الفنون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بصرية والموسيقى والحرك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ستخدام الأنشطة الإبدائية للفنون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بصرية والموسيقى والحركة لغرض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تعبير والاتصال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مناقشة الرد وشعور النفس نحو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أشكال التعبير المختلفة وتتصل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بمحتوى الدرس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K 1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7"/>
          <p:cNvSpPr/>
          <p:nvPr/>
        </p:nvSpPr>
        <p:spPr>
          <a:xfrm>
            <a:off x="260280" y="8532720"/>
            <a:ext cx="86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Julai 20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5013360" y="179280"/>
            <a:ext cx="172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LAM-PT-05-0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20640" y="642960"/>
          <a:ext cx="5761080" cy="7515360"/>
        </p:xfrm>
        <a:graphic>
          <a:graphicData uri="http://schemas.openxmlformats.org/drawingml/2006/table">
            <a:tbl>
              <a:tblPr/>
              <a:tblGrid>
                <a:gridCol w="720720"/>
                <a:gridCol w="2808360"/>
                <a:gridCol w="934920"/>
                <a:gridCol w="1297080"/>
              </a:tblGrid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ggu/ Tarik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pik/ Taju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m Interak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eminggu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a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-17 MAC 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Pelajar menghadiri PBS di sekolah pilihan pelaj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S 1 ( Sem 2 Thn 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S 3 ( Sem 2 Tahun 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24 MAC 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CUTI PERTENGAHAN PENGGAL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0920"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-31 M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marL="228600" algn="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*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استكشافات واكتساب الخبرة والتعبير من خلال الفن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استكشاف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كتساب الخبرة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تعبير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7320"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7 APRIL 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marL="228600" algn="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تطبيق وإجراء الأنشطة التعليمية والتعلمية في تربية اللغة العربي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تعريض بمبدأ التكامل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مبادئ ومعاني التكامل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قضايا وتحديات التكامل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تكامل محتويات الوحدة ، المهارات المتعددة ، العملية واستراتيجيات المواد المختلف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5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p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تكامل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تراب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متصاص المعارف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صياغة القي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تخصيب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تحسين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K 2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JIAN AM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APRIL 2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JOHANAN OLAHRAGA TAHUN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5080"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4 APR 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تعريض للأغراض ( للموضوعات ) والعلاقات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ختيار وتعيين الأغراض ( الموضوعات 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ختيار الأغراض ( الموضوعات ) على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حسب نتاج التعلم ، ومهارات المادة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ومراحل ورغبات وخلفيات الدارس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-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ربط الفنون البصرية ، والموسيقى والحركة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مبدعة لتخصص اللغة العربيةفي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       </a:t>
                      </a: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مدارس الابتدائي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K 2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JIAN AM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April 2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isytiharan Melaka Bandar Raya Bersejar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aksi/Perkhemahan UB (4H3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M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Sem 2 Thn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Box 7"/>
          <p:cNvSpPr/>
          <p:nvPr/>
        </p:nvSpPr>
        <p:spPr>
          <a:xfrm>
            <a:off x="260280" y="8532720"/>
            <a:ext cx="86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Julai 20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3"/>
          <p:cNvSpPr/>
          <p:nvPr/>
        </p:nvSpPr>
        <p:spPr>
          <a:xfrm>
            <a:off x="5013360" y="179280"/>
            <a:ext cx="172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LAM-PT-05-0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00040" y="979560"/>
          <a:ext cx="6072120" cy="5043240"/>
        </p:xfrm>
        <a:graphic>
          <a:graphicData uri="http://schemas.openxmlformats.org/drawingml/2006/table">
            <a:tbl>
              <a:tblPr/>
              <a:tblGrid>
                <a:gridCol w="758880"/>
                <a:gridCol w="2878200"/>
                <a:gridCol w="863640"/>
                <a:gridCol w="1571400"/>
              </a:tblGrid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ggu/ Tarik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pik/ Taju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m Interak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eminggu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a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 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 – 21 APR 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إنتاج الوسائل المعينة لعملية التعليم والتعلم مع تسريب العناصر الفنية في التربي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K 2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IFIKASI KERJA KURSU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JIAN AM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3080"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 -28 APR 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marL="2286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إنتاج الأنشطة مع تسويب الفن المرئي ، الموسيقى والحركة في عملية التعليم والتعلم لتخصص اللغة العربية في المدارس الابتدائي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K 2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 APRIL 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RAK &amp; MIKRA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SUK MARKAH KERJA KURSUS ( BKKP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 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– 5 ME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GGU ULANGKAJ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MEI 201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RI PEKER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-12 MEI 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GGU PEPERIKSA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EI 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RI WESA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-19 MEI 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GGU PEPERIKSA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-26 MEI 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GGU PEPERIKSA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 Nov 2016 – 2 Jan 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TI PERTENGAHAN TAHU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 MEI 2017 – AWAL RAMADH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JUN 2017 – HARI KEPUTERAAN SERI PADUKA YDP AGO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TextBox 5"/>
          <p:cNvSpPr/>
          <p:nvPr/>
        </p:nvSpPr>
        <p:spPr>
          <a:xfrm>
            <a:off x="285840" y="8643960"/>
            <a:ext cx="86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Julai 20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407880" y="6000840"/>
            <a:ext cx="4235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100" spc="-1" strike="noStrike">
                <a:solidFill>
                  <a:srgbClr val="000000"/>
                </a:solidFill>
                <a:latin typeface="Calibri"/>
              </a:rPr>
              <a:t>Catatan : Rancangan ini tertakluk pada pindaan</a:t>
            </a:r>
            <a:r>
              <a:rPr b="0" lang="fi-FI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404640" y="6611760"/>
            <a:ext cx="338472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ndatangan Pensyar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ama: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HD RIZUAN BIN ABD RASI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rikh: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3833640" y="6156360"/>
            <a:ext cx="2980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isahkan oleh Ketua Jaba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ndatang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ama: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 Jabata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rikh:  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9T03:56:17Z</dcterms:created>
  <dc:creator>End User</dc:creator>
  <dc:description/>
  <dc:language>en-US</dc:language>
  <cp:lastModifiedBy>rizuanrasip</cp:lastModifiedBy>
  <dcterms:modified xsi:type="dcterms:W3CDTF">2017-09-18T00:49:56Z</dcterms:modified>
  <cp:revision>104</cp:revision>
  <dc:subject/>
  <dc:title>Slide 1</dc:title>
</cp:coreProperties>
</file>