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998-01FC-477F-BD2A-F2B28E13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014-88B6-4ED2-8897-4AC1192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876-0F3C-4EE9-9ED4-7A5D88F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D149-FD93-4E49-84DB-5E5560460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98BA-C43C-48CE-9CC7-C720C5DA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8533-35B5-4119-959A-15FA4C6E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2110-AD1C-46A1-92EE-909D3A7F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397D-204A-4632-9A1D-E4E4481B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08F2-1164-42F2-92A7-3D5EFB6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3D84-4B83-4FD1-B239-25306728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C702-7E92-45FD-95A2-6662AE7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0F7-0C60-4F8A-981B-2F70A0D8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638-AE5D-4798-A5A9-3446B103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4C1F-544D-498F-8921-CDAE293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B2B2-F7ED-4E21-89C1-F0AE0E10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4AB9-EB8E-4A35-8F4E-09892CB3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54EE-6CDF-47FD-ADF8-CD9D50E3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A72-C6F3-4DE6-B386-ED80D259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79C-2406-46F1-903C-5C06336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156-479F-46D9-A197-C5EF1703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112-BD7D-47C9-B2B3-E27FABC8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768-89FC-4799-996A-8306C0A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34B-F752-4DDF-9A3B-D2263F44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1756-2CCC-41E8-A9B6-A33D85B5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dd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68B-3C78-4E2A-9F17-EA012E6EAC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73580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25203"/>
                </a:gs>
                <a:gs pos="100000">
                  <a:srgbClr val="ea930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ea9306"/>
                </a:gs>
                <a:gs pos="50000">
                  <a:srgbClr val="fac120"/>
                </a:gs>
                <a:gs pos="100000">
                  <a:srgbClr val="ea93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fac1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dd1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B99D-379F-415D-8870-B1E2FCA3B5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dd1"/>
                </a:solidFill>
                <a:latin typeface="Times New Roman"/>
              </a:rPr>
              <a:t>016. 85th Birthday Celebration – </a:t>
            </a:r>
            <a:br>
              <a:rPr sz="3200"/>
            </a:br>
            <a:r>
              <a:rPr b="1" lang="en-US" sz="3200" spc="-1" strike="noStrike">
                <a:solidFill>
                  <a:srgbClr val="fffdd1"/>
                </a:solidFill>
                <a:latin typeface="Times New Roman"/>
              </a:rPr>
              <a:t>23rd Nov 2010</a:t>
            </a:r>
            <a:endParaRPr b="1" lang="en-US" sz="32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 rot="21147600">
            <a:off x="2209680" y="1523520"/>
            <a:ext cx="4800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um Shri Sai Ram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 rot="20833200">
            <a:off x="2285640" y="3504960"/>
            <a:ext cx="52578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With Humble and Heartfelt Pranams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at the Lotus Feet of Swami.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162000" y="-19080"/>
            <a:ext cx="9468000" cy="6896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162000" y="-42840"/>
            <a:ext cx="9468000" cy="694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162000" y="-23760"/>
            <a:ext cx="946800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62000" y="-42840"/>
            <a:ext cx="9468000" cy="69436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101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162000" y="395280"/>
            <a:ext cx="9468000" cy="6067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galam Guru Devaay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Mangalam Gyan Dayine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Mangalam Parthi Vasaaya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Mangalam Sathya Sai Ne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  Om Shanthi Shanthi Shanth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"Sarva mangalaya maangalyay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Shivay sarvardha sadhikay ..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aranye trayambakay dev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Naarayani namostute !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662040"/>
            <a:ext cx="9144000" cy="5533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576360"/>
            <a:ext cx="9144000" cy="5705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-19044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dd1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manye vadhikaraste ma phaleshu kadach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armaphalehtur bhurma te sangostvakarmani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You have a right to perform your prescribed duty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t you are not entitled to the fruits of action</a:t>
            </a:r>
            <a:r>
              <a:rPr b="1" lang="hi-IN" sz="2400" spc="-1" strike="noStrike">
                <a:solidFill>
                  <a:srgbClr val="ffffff"/>
                </a:solidFill>
                <a:latin typeface="Times New Roman"/>
              </a:rPr>
              <a:t>।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ver consider yourself the cause of the resul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your activities, and never be attached to 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ing your duty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m Shri Sai 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836720" y="0"/>
            <a:ext cx="51735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3057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62000" y="-38160"/>
            <a:ext cx="9468000" cy="6934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9306"/>
            </a:gs>
            <a:gs pos="100000">
              <a:srgbClr val="fac12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162000" y="-23760"/>
            <a:ext cx="9468000" cy="69055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04:21:02Z</dcterms:created>
  <dc:creator>admin</dc:creator>
  <dc:description/>
  <dc:language>en-US</dc:language>
  <cp:lastModifiedBy>admin</cp:lastModifiedBy>
  <dcterms:modified xsi:type="dcterms:W3CDTF">2011-01-05T11:33:48Z</dcterms:modified>
  <cp:revision>5</cp:revision>
  <dc:subject/>
  <dc:title>016. 85th Birthday Celebration –  23rd Nov 2010</dc:title>
</cp:coreProperties>
</file>