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8C5-4874-476B-AAAE-4CC5EE32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731-8237-46F4-82F2-AC58BB52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78B-D49F-462D-9E29-4A220AE9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3CA3-5976-4B38-8A49-06A788A6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EAD2-EA1D-4BB0-B773-DD456AF8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2FC6-C876-4096-BC3F-A9D6F49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B5C8-3AC5-4316-800D-7E15992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84EF-7C27-4A37-BFD8-45614D38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4B2-D0EA-41F1-8A20-EE4F968D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8772-FE2B-4CB9-BAC8-F1F0B95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FF9F-FE52-4268-8268-38ABA78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C66-FBF4-46A4-93D2-0A808429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C947-BC1C-40F4-AD98-CE5F5C7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02B-0502-48B5-A69D-E0AE055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1540-2130-4B40-BFBD-1DC3687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B99E-5005-44E2-8C30-663F54FB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189-6E7F-4EAD-B723-5B5CEE60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2CC-45C6-4DA9-B1C2-0A9AE167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088-9A91-4C01-AC0A-B49B6F5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847-B5D5-4926-9684-733399E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48D-D143-4FCE-9259-C7A9EEBF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91D4-18E1-4C68-A790-0573E375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EA1-E9E4-40AC-8C30-B84E09E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36D-D1BE-4007-AA20-9CAFD93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B962-B370-40EB-8AD5-82CDFDE6D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CA31-214F-4422-AEA3-7C4D5EF8B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dd1"/>
                </a:solidFill>
                <a:latin typeface="Times New Roman"/>
              </a:rPr>
              <a:t>016. 85th Birthday Celebration – </a:t>
            </a:r>
            <a:br>
              <a:rPr sz="3200"/>
            </a:br>
            <a:r>
              <a:rPr b="1" lang="en-US" sz="3200" spc="-1" strike="noStrike">
                <a:solidFill>
                  <a:srgbClr val="fffdd1"/>
                </a:solidFill>
                <a:latin typeface="Times New Roman"/>
              </a:rPr>
              <a:t>23rd Nov 2010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 rot="21147600">
            <a:off x="2209680" y="152352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Shri Sai Ra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20833200">
            <a:off x="2285640" y="350496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With Humble and Heartfelt Pranams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at the Lotus Feet of Swami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62000" y="-19080"/>
            <a:ext cx="946800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62000" y="-42840"/>
            <a:ext cx="9468000" cy="694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62000" y="-23760"/>
            <a:ext cx="946800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62000" y="-42840"/>
            <a:ext cx="9468000" cy="694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62000" y="395280"/>
            <a:ext cx="9468000" cy="6067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galam Guru Devaay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Mangalam Gyan Dayin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Mangalam Parthi Vasaay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Mangalam Sathya Sai N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Om Shanthi Shanthi Shanth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Sarva mangalaya maangalyay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Shivay sarvardha sadhikay .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aranye trayambakay dev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Naarayani namostute !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3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manye vadhikaraste ma phaleshu kadach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maphalehtur bhurma te sangostvakarman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 have a right to perform your prescribed du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you are not entitled to the fruits of action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।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ver consider yourself the cause of the resul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your activities, and never be attached to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ing your dut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 Shri Sai 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6720" y="0"/>
            <a:ext cx="5173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62000" y="-38160"/>
            <a:ext cx="946800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62000" y="-23760"/>
            <a:ext cx="946800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04:21:02Z</dcterms:created>
  <dc:creator>admin</dc:creator>
  <dc:description/>
  <dc:language>en-US</dc:language>
  <cp:lastModifiedBy>admin</cp:lastModifiedBy>
  <dcterms:modified xsi:type="dcterms:W3CDTF">2011-01-05T11:33:48Z</dcterms:modified>
  <cp:revision>5</cp:revision>
  <dc:subject/>
  <dc:title>016. 85th Birthday Celebration –  23rd Nov 2010</dc:title>
</cp:coreProperties>
</file>