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C0D9-34B6-48FC-B7AB-509A9A8F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270-F89C-4061-8D6E-A985EAA4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4E60-F9C2-4E58-9EEB-73D73DAC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346-B97B-4510-B454-C84638B4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51C-4A46-40A8-87E5-C612370C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313-93FA-48CF-A88D-D9E2B291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C5C-9231-4A39-8BB0-A322EF54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DD3-2658-47F1-A24C-CE35F75D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845-DA0A-4D4E-B40C-E7EF255C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BF3-6E28-493F-97A5-2312BD76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C1A-4771-4D81-96DD-59A3135D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44F-19CC-462B-896D-B895FA72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D432A-7C4E-47C8-B62E-B60B59B29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E9832-C223-4B95-9A99-DE87D673991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image" Target="../media/image2.png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2.xml"/><Relationship Id="rId10" Type="http://schemas.openxmlformats.org/officeDocument/2006/relationships/image" Target="../media/image2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59:06Z</dcterms:created>
  <dc:creator>최봉수</dc:creator>
  <dc:description/>
  <dc:language>en-US</dc:language>
  <cp:lastModifiedBy>군만두 맛있다</cp:lastModifiedBy>
  <dcterms:modified xsi:type="dcterms:W3CDTF">2023-07-12T06:07:04Z</dcterms:modified>
  <cp:revision>2</cp:revision>
  <dc:subject/>
  <dc:title>슬라이드 1</dc:title>
</cp:coreProperties>
</file>