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12FE-D53A-4CB7-9BFB-8F83A6153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4994-80C9-478B-833A-FA420EE5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D285-5577-4C78-8796-8ECD925EF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4BD3-2F45-45ED-B0F9-376B5D113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5D4B-2932-41B8-B2D3-24E99436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58D3-6866-43B8-9A0B-11F7A0AB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4DAB-1F0F-4BC0-AB38-4EF650DC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D916-29B9-4991-A5BD-26E462F7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D64F-BFB7-44A0-BE79-0DBFE7EA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4FB3-D2F0-4EF6-A1F5-6857B425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D49A-3807-476F-AB19-A41F6705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5CE8-C1CC-4744-A81A-275616C2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60470A-DE0C-4D05-9B22-7D77A7D242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296434-7183-460D-8E09-BF39720975F9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" Target="slide4.xml"/><Relationship Id="rId5" Type="http://schemas.openxmlformats.org/officeDocument/2006/relationships/slide" Target="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2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" Target="slide4.xml"/><Relationship Id="rId5" Type="http://schemas.openxmlformats.org/officeDocument/2006/relationships/slide" Target="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2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" Target=""/><Relationship Id="rId5" Type="http://schemas.openxmlformats.org/officeDocument/2006/relationships/image" Target="../media/image2.png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2.xml"/><Relationship Id="rId10" Type="http://schemas.openxmlformats.org/officeDocument/2006/relationships/image" Target="../media/image2.png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6:59:06Z</dcterms:created>
  <dc:creator>최봉수</dc:creator>
  <dc:description/>
  <dc:language>en-US</dc:language>
  <cp:lastModifiedBy>군만두 맛있다</cp:lastModifiedBy>
  <dcterms:modified xsi:type="dcterms:W3CDTF">2023-07-12T06:07:04Z</dcterms:modified>
  <cp:revision>2</cp:revision>
  <dc:subject/>
  <dc:title>슬라이드 1</dc:title>
</cp:coreProperties>
</file>