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1E7-2C94-412E-A539-2ABB2D12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86C-0584-4B38-BE1B-3E62D93E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944-7C43-4FBE-8181-E7BE1FF0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B75-2B50-4255-9B7A-0A10D921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7AF-522C-4935-B716-AD60F020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625-A987-4EB7-93FB-90A1CEAA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1F4-B038-45C7-8DBD-05F6E2AD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4AD-A0D7-49AB-AF9A-BA152F25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DB3-1C2D-4970-AD73-DE8FDE1E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63E-42C7-42B0-8237-0A8BF34D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A11-0C6C-44C9-8A23-FA81892A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6AA-F4F7-4208-AD64-6405B7A1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8A2D1-CAD9-4DA9-BADA-7185D5B647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BC209-057B-41A7-A788-2D67B2B1112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8:58:35Z</dcterms:created>
  <dc:creator>최봉수</dc:creator>
  <dc:description/>
  <dc:language>en-US</dc:language>
  <cp:lastModifiedBy>맛있다 군만두</cp:lastModifiedBy>
  <dcterms:modified xsi:type="dcterms:W3CDTF">2023-07-13T06:53:47Z</dcterms:modified>
  <cp:revision>3</cp:revision>
  <dc:subject/>
  <dc:title>슬라이드 1</dc:title>
</cp:coreProperties>
</file>