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AE0B-721B-4514-A8A8-476AFDDE7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3A32-7BB1-4AB9-8396-0C4CC1C9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6D52-CB69-4BD8-8758-462BEAC98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F102-2F23-406B-B006-C9CE74802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10DA-6A8C-495B-B562-BBB85D6F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44F2-46AF-4AB4-99EA-DF3EEF6E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EFE4-5EF0-4AAB-A56D-03B03E0D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01B3-FEEF-4A13-8F90-C460A8DA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ABAC-1E67-4A04-8385-2A2C5406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F7BA-CC49-45A3-9C42-40B5D8CE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C05D-0546-41C5-902F-53CFC133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8F96-C0E7-49D3-A856-9A884B44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8BFA18-3052-4AD2-8839-0C277C5D074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A63F95-5377-4CCF-B0F0-F7896E0E2BBE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5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8:58:35Z</dcterms:created>
  <dc:creator>최봉수</dc:creator>
  <dc:description/>
  <dc:language>en-US</dc:language>
  <cp:lastModifiedBy>맛있다 군만두</cp:lastModifiedBy>
  <dcterms:modified xsi:type="dcterms:W3CDTF">2023-07-13T06:53:47Z</dcterms:modified>
  <cp:revision>3</cp:revision>
  <dc:subject/>
  <dc:title>슬라이드 1</dc:title>
</cp:coreProperties>
</file>