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476-5062-436F-AC0E-256EF5E4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5A5-D387-4ECC-A102-CBA1B99C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421-7327-46F2-A92F-8448AFF9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5B3-41B7-4492-BA82-AEA286DB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3BF4-3659-4DAD-A9BF-F7DECECB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783B-66A2-49AD-961F-0E7A4659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A248-E072-4115-80F0-40C94048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E3A8-1D71-48E7-A9A3-9039ACCA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E234-CC6E-4034-9E6D-D436AAFE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4176-2605-48C4-9FD6-F96071D9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94BB-499D-4BB4-8A1B-40E821D5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A0C-347B-42D7-ACC1-2977AA7C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D8D6-2418-4E02-95B1-1A4E0FD7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7257-6D18-40EC-859E-940A3F60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DBE1-E4AF-463D-B032-7647014B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5095-223D-4D6C-8E24-39E652EA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D7C9-F01E-4A89-A599-9E8E10AD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90E-46CE-458B-B4DC-F419804A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917-F091-4D89-B074-9274BF86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BD4-D51E-432F-B993-3E9CE0CA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B2A-38CD-4C4F-9FE2-C79EEFC3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813-E633-4A44-BC9D-E7F7BE1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4A7-4B63-47D9-B6DE-B85DCB31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236-13AE-415B-A096-4A115B6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6854-28C1-4259-B306-C15F877BA5B3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B27-03A2-4304-9234-6B29E9C18EAE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43000" y="1066680"/>
            <a:ext cx="72388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najemen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mbiayaa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2F52-27E2-4769-943E-78DFA02A8456}" type="slidenum">
              <a:t>1</a:t>
            </a:fld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Tatacara Penilaian suatu Pembiayaan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tem dan prosedur penilaian kualitas atas kolektibilitas pembiayaan sesuai dengan lampiran SE BI No.31/1/UPPB, 12 November 1998 tentang Kualitas Pembiayaan, yang pada dasarnya terbagi at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Pembiayaan Lancar (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Pembiayaan Dalam Perhatian Khusus (DP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Pembiayaan Kurang Lancar (K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Pembiayaan Diragukan (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Pembiayaan Macet (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B8A-73FB-4FC2-A169-D92E0324A401}" type="slidenum">
              <a:t>10</a:t>
            </a:fld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Profesionalisme dan Integritas Pejabat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iliki keterampilan manajerial dan teknik perban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taati moral dan etika pembiayaan, profesional, jujur dan memahami ketentuan-ketentuan pembiay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iliki integritas dan tanggung jawab sosial yang tingg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alu berupaya meningkatkan mutu pengetahuan perbankan dan pengetahuan terkait lainn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C48-B9FE-4C8C-97D3-63090FABF939}" type="slidenum">
              <a:t>11</a:t>
            </a:fld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Ketentuan BI tentang Prinsip Kehati-hatian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MPK atau LL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20% dari modal untuk nasabagh individ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25% dari modal untuk nasabah yang terkait atau berasal dari kelompok usahan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D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4,75% adalah rasio yang seh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% ketentuan dari BI yang berlaku sejak tahun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kasi jumlah pembiayaan untuk sektor/golongan usaha tertent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tas minimum perolehan laba bank, khususnya RO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,251% minimal untuk predikat seh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BB5-37C2-4870-AE1E-655300BF47D2}" type="slidenum">
              <a:t>12</a:t>
            </a:fld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STRUKTUR ORGANISASI PEMBIAYAAN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Komite Pembiaya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anajer/Direkt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Kepala Bag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Account Offi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ugas Komite Pembiaya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empelajari usulan pembiayaan baru, lama dan penambahan jumla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eneliti sebab-sebab terjadinya pembiayaan bermasal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eneliti ketaatan terhadap kebijakan dan prosed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eneliti kelengkapan dokumen nasab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emantau pelayanan kepada nasab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7FC-3F86-41FD-A4C8-6C6E2E0807BE}" type="slidenum">
              <a:t>13</a:t>
            </a:fld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0" y="2590920"/>
            <a:ext cx="5029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isiko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mbiayaan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D73-8C76-4151-B7C7-7F91E22B11CA}" type="slidenum">
              <a:t>14</a:t>
            </a:fld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Bank pada umumnya menghadapi 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Credi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Liquidity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Currency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Operational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218-50FF-4052-855B-745A41E73CBB}" type="slidenum">
              <a:t>15</a:t>
            </a:fld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33560" y="-22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Tahoma"/>
              </a:rPr>
              <a:t>RISIKO PEMBIAYAAN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tor In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Self dealing/tindakan kecurang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Lemahnya SD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Tidak adanya kebijakan, prosedur dan sistem administrasi pembiayaa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Lemahnya pembinaan, evaluasi dan tindak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ktor Ekster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Risiko yang melekat pada usaha nasaba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Faktor kondisi ekstern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Itikad tidak baik dari nasaba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Force Majeu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Pilihan terbatas untuk memperoleh nasaba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Intervens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Kesulitan likuiditas akibat NPL tingg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9EE-C2B7-424E-93F2-17632E119490}" type="slidenum">
              <a:t>16</a:t>
            </a:fld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15238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llGothic BT"/>
              </a:rPr>
              <a:t>Pembiayaan berdasarkan Prinsip Syariah adalah penyediaan uang atau tagihan yang dipersamakan dengan itu berdasarkan persetujuan atau kesepakatan pinjam-meminjam antara bank dengan pihak lain yang mewajibkan pihak yang dibiayai untuk mengembalikan uang atau tagihan tersebut setelah jangka waktu tertentu dengan imbalan atau bagi hasil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(UU No. 10/1998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1BCE-7AAD-4920-B7F1-48A0C4A44EDE}" type="slidenum">
              <a:t>2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9900"/>
                </a:solidFill>
                <a:latin typeface="Tahoma"/>
              </a:rPr>
              <a:t>UNSUR-UNSUR PEMBIAYAAN</a:t>
            </a:r>
            <a:endParaRPr b="0" lang="en-US" sz="3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406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percaya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Jangka Wakt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ingkat Resik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bjek Pembiaya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F71-6618-40B4-976C-9AFDDC6D2ED1}" type="slidenum">
              <a:t>3</a:t>
            </a:fld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9900"/>
                </a:solidFill>
                <a:latin typeface="Tahoma"/>
              </a:rPr>
              <a:t>MANFAAT PEMBIAYAAN</a:t>
            </a:r>
            <a:endParaRPr b="0" lang="en-US" sz="3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tuk Nasabah/Angg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enambah mod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emperoleh sarana produksi secara terus mener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eningkatkan pendapa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tuk Lembaga Keuan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umber pembentukan kekayaan dan pendapa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dapat memilih sektor usaha yang produktif   dan prospekti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enjalankan peran pemberdayaan ekonomi u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831-5D71-4312-9931-F1F012328D91}" type="slidenum">
              <a:t>4</a:t>
            </a:fld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73152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9900"/>
                </a:solidFill>
                <a:latin typeface="Tahoma"/>
              </a:rPr>
              <a:t>Jenis-Jenis Pembiayaan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rdasarkan Tujuann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Invest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odal Ker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rdasarkan Sektor Usah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Perdagang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Peternak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Industri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Ja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Pertan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rdasarkan Jangka Wakt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Jangka Pendek (&lt; 1 tahu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Jangka Menengah (= 1 tahu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Jangka Panjang (&gt; 1 tahu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77C-4F05-436F-BC97-53632A681BE8}" type="slidenum">
              <a:t>5</a:t>
            </a:fld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3152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9900"/>
                </a:solidFill>
                <a:latin typeface="Tahoma"/>
              </a:rPr>
              <a:t>KEBIJAKSANAAN PEMBIAYAAN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Manfaat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Melaksanakan standar-standar pembiayaan yang telah ditetapk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Memenuhi peraturan-peraturan pembiayaan yang telah ditetapkan baik oleh 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manajemen maupun pengurus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Menjamin keseragaman dalam pengambilan keputus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Bahan perbandingan antara strategi pembiayaan dengan keadaaan yang 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sedang berjal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Azas dalam menyusun Kebijakan Pembiaya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Azas Likuidita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Azas Solvabilita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Azas Rentabilita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C9B-2413-4DFF-A699-4049691EB6CB}" type="slidenum">
              <a:t>6</a:t>
            </a:fld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Kebijaksanaan Pembiayaan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bijaksanaan pokok pembiay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ta cara penilaian suatu pembiay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ionalisme dan integrasi pejabat pembiay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6CC-E057-4502-AF1C-9D397F6E441B}" type="slidenum">
              <a:t>7</a:t>
            </a:fld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Kebijakan Pokok Pembiayaan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stem dan prosedur pembiayaan yang sehat, prosedur persetujuan pemberian pembiayaan, administrasi dan dokumentasi pembiayaa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stem dan prosedur pembiayaan yang harus mendapat perhatian khusus dan pencadangan pembiayaan yang diklasifikasik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stem dan prosedur penyelamatan dan penyelesaian pembiayaan bermasalah dan penghapusbukuan (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write off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 pembiayaan mac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tacara penyelesaian barang-barang agunan pembiayaan yang dikuas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9A1-71EA-4BF4-BC7F-E78BF3CA11EC}" type="slidenum">
              <a:t>8</a:t>
            </a:fld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Pokok-pokok Pengaturan Pemberian Pembiayaan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tas maksimum pemberian pembiayaan atau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egal lending limit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n jumlah modal yang 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tacara penyediaan pembiayaan yang akan dikonsumsikan, disindikasikan dan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risk-sha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ngan institusi keuangan l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yaratan pembiayaan (jenis, besarnya mark up, bagi hasil, pola pengembalian dan ag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ktor ekonomi, segmentasi pasar, kegiatan usaha dan nasabah yang berisiko tingg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mbiayaan yang perlu dihindari seperti; untuk tujuan spekulasi, perjudian, ketidaklengkapan administrasi dan laporan keuangan, usaha yang memerlukan keahlian khusus dan usaha yang telah bermasal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63B-FDD1-464B-A0B8-FD18DCA21A3C}" type="slidenum">
              <a:t>9</a:t>
            </a:fld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21:05:36Z</dcterms:created>
  <dc:creator>SUDARSO</dc:creator>
  <dc:description/>
  <dc:language>en-US</dc:language>
  <cp:lastModifiedBy>Consulting</cp:lastModifiedBy>
  <dcterms:modified xsi:type="dcterms:W3CDTF">2004-05-10T04:48:45Z</dcterms:modified>
  <cp:revision>15</cp:revision>
  <dc:subject/>
  <dc:title>MANAJEMEN PEMBIAYAAN</dc:title>
</cp:coreProperties>
</file>