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9F2-6AB0-4EED-9B31-B101EAE0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305-0E32-40E3-AC52-A18646E6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D0C-547A-476E-A377-BC43B2F7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8A8-B4B5-4787-AD42-180B2854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BBD0-C318-4BC3-9C76-9B4788AF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07AD-8AB7-4F73-BDD5-5C4DE17C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7906-6BD6-4DE7-AED3-24A94ECD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9F3D-76E0-4587-8289-DEC3CFC3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F5B9-BA52-4A1E-BD49-11E5AD81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DC41-E2AF-4526-A0B8-7F58293F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2A5F-BC38-439D-9EA8-D04D93C9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44B-0DAF-49FA-98BF-CC70034E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459A-2DC5-42BE-BC83-E893E345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C6CA-996F-4D31-B797-CB3D0773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23ED-54B3-43CF-8627-DEB6B6E7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DCAC-0204-47F1-9630-938167C8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9757-815F-46DF-88CD-23F30A28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98B-3DC3-4B38-AE9F-B943A6DC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E1A-8FC0-4CC2-936F-2F17E998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573-C46E-45B5-8409-6EC168E7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C96-BE65-4547-99EC-A4BDD623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DFC-0615-4BC8-A5B0-57E29238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D7A-BEA8-4777-9C8C-2EC27D2E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C4B-6B7A-487A-A54F-8BB8D05E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2B07-8C63-4D46-B2DB-336C6AABA8C8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46DD-2D6C-4790-879E-DB59A7AE3177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43000" y="1066680"/>
            <a:ext cx="72388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najemen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mbiayaa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EC77-FD29-46EE-B05F-D1C5470A6F47}" type="slidenum">
              <a:t>1</a:t>
            </a:fld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Tatacara Penilaian suatu Pembiayaan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tem dan prosedur penilaian kualitas atas kolektibilitas pembiayaan sesuai dengan lampiran SE BI No.31/1/UPPB, 12 November 1998 tentang Kualitas Pembiayaan, yang pada dasarnya terbagi at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Pembiayaan Lancar (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Pembiayaan Dalam Perhatian Khusus (DP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Pembiayaan Kurang Lancar (K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Pembiayaan Diragukan (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Pembiayaan Macet (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6F7-AA39-4728-88A0-E7952E2362E4}" type="slidenum">
              <a:t>10</a:t>
            </a:fld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Profesionalisme dan Integritas Pejabat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iliki keterampilan manajerial dan teknik perban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taati moral dan etika pembiayaan, profesional, jujur dan memahami ketentuan-ketentuan pembiay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iliki integritas dan tanggung jawab sosial yang tingg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alu berupaya meningkatkan mutu pengetahuan perbankan dan pengetahuan terkait lainn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F2C-B7FC-4BDD-9ECC-DDA923FCEFD8}" type="slidenum">
              <a:t>11</a:t>
            </a:fld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Ketentuan BI tentang Prinsip Kehati-hatian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MPK atau LL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20% dari modal untuk nasabagh individ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25% dari modal untuk nasabah yang terkait atau berasal dari kelompok usahan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D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4,75% adalah rasio yang seh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% ketentuan dari BI yang berlaku sejak tahun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kasi jumlah pembiayaan untuk sektor/golongan usaha tertent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tas minimum perolehan laba bank, khususnya RO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,251% minimal untuk predikat seh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31C-5D42-4F40-805A-D3E17A4AAD74}" type="slidenum">
              <a:t>12</a:t>
            </a:fld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STRUKTUR ORGANISASI PEMBIAYAAN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Komite Pembiaya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anajer/Direkt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Kepala Bagi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Account Offi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ugas Komite Pembiaya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empelajari usulan pembiayaan baru, lama dan penambahan jumla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eneliti sebab-sebab terjadinya pembiayaan bermasal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eneliti ketaatan terhadap kebijakan dan prosed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eneliti kelengkapan dokumen nasab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emantau pelayanan kepada nasab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244-A4C8-4D1D-8B28-7FF2B2B7A9AB}" type="slidenum">
              <a:t>13</a:t>
            </a:fld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0" y="2590920"/>
            <a:ext cx="5029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isiko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mbiayaan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B06-558E-4382-8CA6-8804529E436D}" type="slidenum">
              <a:t>14</a:t>
            </a:fld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Bank pada umumnya menghadapi 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Credi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Liquidity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Currency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 (Arabic)"/>
              </a:rPr>
              <a:t>Operational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67F-17B5-4892-98C0-65F6CB6AE1EE}" type="slidenum">
              <a:t>15</a:t>
            </a:fld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33560" y="-22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00"/>
                </a:solidFill>
                <a:latin typeface="Tahoma"/>
              </a:rPr>
              <a:t>RISIKO PEMBIAYAAN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tor Int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Self dealing/tindakan kecurang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Lemahnya SD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Tidak adanya kebijakan, prosedur dan sistem administrasi pembiayaa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Lemahnya pembinaan, evaluasi dan tindak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ktor Ekster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Risiko yang melekat pada usaha nasaba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Faktor kondisi ekstern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Itikad tidak baik dari nasaba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Force Majeu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Pilihan terbatas untuk memperoleh nasaba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Intervens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Kesulitan likuiditas akibat NPL tingg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356-F4F4-44AB-86A1-D8B9E296FA42}" type="slidenum">
              <a:t>16</a:t>
            </a:fld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15238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llGothic BT"/>
              </a:rPr>
              <a:t>Pembiayaan berdasarkan Prinsip Syariah adalah penyediaan uang atau tagihan yang dipersamakan dengan itu berdasarkan persetujuan atau kesepakatan pinjam-meminjam antara bank dengan pihak lain yang mewajibkan pihak yang dibiayai untuk mengembalikan uang atau tagihan tersebut setelah jangka waktu tertentu dengan imbalan atau bagi hasil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(UU No. 10/1998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F5D8-6424-4240-814C-2CB49AACB84C}" type="slidenum">
              <a:t>2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9900"/>
                </a:solidFill>
                <a:latin typeface="Tahoma"/>
              </a:rPr>
              <a:t>UNSUR-UNSUR PEMBIAYAAN</a:t>
            </a:r>
            <a:endParaRPr b="0" lang="en-US" sz="3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406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epercaya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Jangka Wakt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ingkat Resik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bjek Pembiaya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D6B-5764-46B4-BC50-1DCFA2B2667F}" type="slidenum">
              <a:t>3</a:t>
            </a:fld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9900"/>
                </a:solidFill>
                <a:latin typeface="Tahoma"/>
              </a:rPr>
              <a:t>MANFAAT PEMBIAYAAN</a:t>
            </a:r>
            <a:endParaRPr b="0" lang="en-US" sz="3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tuk Nasabah/Angg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enambah mod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emperoleh sarana produksi secara terus mener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eningkatkan pendapa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tuk Lembaga Keuan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umber pembentukan kekayaan dan pendapa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dapat memilih sektor usaha yang produktif   dan prospekti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enjalankan peran pemberdayaan ekonomi u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557-9445-4CE4-9A97-D569DA42EDE8}" type="slidenum">
              <a:t>4</a:t>
            </a:fld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73152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9900"/>
                </a:solidFill>
                <a:latin typeface="Tahoma"/>
              </a:rPr>
              <a:t>Jenis-Jenis Pembiayaan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rdasarkan Tujuann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Invest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Modal Ker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rdasarkan Sektor Usah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Perdaganga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Peternak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Industri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Ja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Pertani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rdasarkan Jangka Wakt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Jangka Pendek (&lt; 1 tahu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Jangka Menengah (= 1 tahu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 Jangka Panjang (&gt; 1 tahu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A59-C25E-472F-B888-5956423F7409}" type="slidenum">
              <a:t>5</a:t>
            </a:fld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3152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9900"/>
                </a:solidFill>
                <a:latin typeface="Tahoma"/>
              </a:rPr>
              <a:t>KEBIJAKSANAAN PEMBIAYAAN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Manfaat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Melaksanakan standar-standar pembiayaan yang telah ditetapk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Memenuhi peraturan-peraturan pembiayaan yang telah ditetapkan baik oleh 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manajemen maupun pengurus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Menjamin keseragaman dalam pengambilan keputus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Bahan perbandingan antara strategi pembiayaan dengan keadaaan yang 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sedang berjal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Azas dalam menyusun Kebijakan Pembiaya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Azas Likuidita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Azas Solvabilita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- Azas Rentabilita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16B-1E14-45DC-9C76-7BD299267741}" type="slidenum">
              <a:t>6</a:t>
            </a:fld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Kebijaksanaan Pembiayaan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bijaksanaan pokok pembiay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ta cara penilaian suatu pembiay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spcBef>
                <a:spcPts val="21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ionalisme dan integrasi pejabat pembiay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664-B42A-4D97-9E8D-AD50F1EDD034}" type="slidenum">
              <a:t>7</a:t>
            </a:fld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ahoma"/>
              </a:rPr>
              <a:t>Kebijakan Pokok Pembiayaan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stem dan prosedur pembiayaan yang sehat, prosedur persetujuan pemberian pembiayaan, administrasi dan dokumentasi pembiayaa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stem dan prosedur pembiayaan yang harus mendapat perhatian khusus dan pencadangan pembiayaan yang diklasifikasik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stem dan prosedur penyelamatan dan penyelesaian pembiayaan bermasalah dan penghapusbukuan (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write off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 pembiayaan mac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tacara penyelesaian barang-barang agunan pembiayaan yang dikuas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4C3-B26F-4584-BCCA-BD39F9CD7D6D}" type="slidenum">
              <a:t>8</a:t>
            </a:fld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ahoma"/>
              </a:rPr>
              <a:t>Pokok-pokok Pengaturan Pemberian Pembiayaan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tas maksimum pemberian pembiayaan atau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egal lending limit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n jumlah modal yang 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tacara penyediaan pembiayaan yang akan dikonsumsikan, disindikasikan dan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risk-sha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ngan institusi keuangan l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yaratan pembiayaan (jenis, besarnya mark up, bagi hasil, pola pengembalian dan ag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ktor ekonomi, segmentasi pasar, kegiatan usaha dan nasabah yang berisiko tingg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mbiayaan yang perlu dihindari seperti; untuk tujuan spekulasi, perjudian, ketidaklengkapan administrasi dan laporan keuangan, usaha yang memerlukan keahlian khusus dan usaha yang telah bermasal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BI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1C2-9100-46A0-9E20-9DAF6D29FB9B}" type="slidenum">
              <a:t>9</a:t>
            </a:fld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21:05:36Z</dcterms:created>
  <dc:creator>SUDARSO</dc:creator>
  <dc:description/>
  <dc:language>en-US</dc:language>
  <cp:lastModifiedBy>Consulting</cp:lastModifiedBy>
  <dcterms:modified xsi:type="dcterms:W3CDTF">2004-05-10T04:48:45Z</dcterms:modified>
  <cp:revision>15</cp:revision>
  <dc:subject/>
  <dc:title>MANAJEMEN PEMBIAYAAN</dc:title>
</cp:coreProperties>
</file>