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FFB-3BB1-439B-9A41-35528073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56B-4465-4420-952F-128301FF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98E-478F-4843-8502-4FFE79D0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BF8-25FD-4526-862A-F113C3A8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543-25F3-475A-B8F2-90C8E6FF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02A-2197-4DB8-A094-E650CEE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A9B-3F4F-4400-92F4-F25C61DA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514-F8C4-4DF8-B930-14CAE5E3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F9B-2F7A-4756-A52F-B6DE3C0C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6AB-CC5B-4AC6-A2C4-09587588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7F7-748E-42A1-BF0F-99731639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B44-EB4B-4980-AA29-BCC7992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3924F-10E5-48B0-BDED-3781A944A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9A9EF-FFA4-4637-981F-9709968FFEC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1:57:46Z</dcterms:created>
  <dc:creator>최봉수</dc:creator>
  <dc:description/>
  <dc:language>en-US</dc:language>
  <cp:lastModifiedBy>군만두 맛있다</cp:lastModifiedBy>
  <dcterms:modified xsi:type="dcterms:W3CDTF">2023-07-12T05:50:08Z</dcterms:modified>
  <cp:revision>2</cp:revision>
  <dc:subject/>
  <dc:title>슬라이드 1</dc:title>
</cp:coreProperties>
</file>