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449-D270-4206-8A5B-1BFE5B9C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025-0A35-40C1-B7EA-4FBD1D0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78E-EB0A-4B35-B896-E7CC218A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C15-7E02-4D27-8EB6-07A6BD18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FD0-FB5E-4066-BFA4-A2B9D3E8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DB5-6D1A-4314-8BE3-F1E9390E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1C8-A5D2-469D-9536-2211E57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DEB-4EB5-4336-BA50-08099BF3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5C8-2B9E-40E1-8B3A-CD6CC2F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B75-8512-4AB7-8AF3-F56FD01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51A-50B3-4B6B-80C9-CF1528D8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5A7-9F85-4421-87EE-1377A81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B8997-E6E1-4822-8F87-79E1DE1F2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0F7F5-EFFB-446C-9E38-CD731E9D345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3.xm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2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5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1:57:46Z</dcterms:created>
  <dc:creator>최봉수</dc:creator>
  <dc:description/>
  <dc:language>en-US</dc:language>
  <cp:lastModifiedBy>군만두 맛있다</cp:lastModifiedBy>
  <dcterms:modified xsi:type="dcterms:W3CDTF">2023-07-12T05:50:08Z</dcterms:modified>
  <cp:revision>2</cp:revision>
  <dc:subject/>
  <dc:title>슬라이드 1</dc:title>
</cp:coreProperties>
</file>