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souris-debut.wav" ContentType="audio/x-wav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788B-570C-4F84-8EDC-6DE4FE43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44EB-3D0E-4194-96CF-09590737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A9A2-D374-4846-8E5B-0C5948FC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190B-F276-4520-950E-121D8713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3836-1648-4785-94D9-5D9D27B9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49D1-BE63-4A3C-AD91-858EB8C6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413-A7A7-4A2D-98E0-1BE06A5F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409E-8B79-4ACA-A210-BB4D7B40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D175-7F00-48CB-B8C4-9A4B0896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B547-7A7E-4A51-8BE1-82D04591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DD9D-25A4-4D9D-A936-E48A416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3759-CC11-4FB1-AC5A-C9949EBD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1555-709B-4A10-98C6-30ADA27F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C623-CC3F-45EB-A881-7FE0E9DF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0454-8E46-4347-B148-331C7CED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FEBD-35E4-49AF-98B2-547071A9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112D-9176-47AB-BE76-F11D10113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23B2-9B2C-4305-8A4C-00487B08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BCBB-0BAC-45B5-B506-F33696F6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F4378-8E2A-4D5A-948D-1FEEB195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070A6-DCC8-4D28-92D6-F1047C9F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8585-FF7B-4FAF-AA1B-14064BDA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DCA1-3B1C-49A2-9FE8-90F07F46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422C-FE13-4C82-89D2-82B091F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0FC7-BACD-4397-8B2A-FC50EC6F528C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8744040" y="6308640"/>
            <a:ext cx="29196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4A5-43B1-42E1-9A8E-0A100CD0D75B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souris-debut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F L14</a:t>
            </a:r>
            <a:br>
              <a:rPr sz="44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nitiation aux statistiqu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55880" y="2158920"/>
            <a:ext cx="5410080" cy="4292640"/>
            <a:chOff x="1955880" y="2158920"/>
            <a:chExt cx="5410080" cy="4292640"/>
          </a:xfrm>
        </p:grpSpPr>
        <p:sp>
          <p:nvSpPr>
            <p:cNvPr id="102" name=""/>
            <p:cNvSpPr/>
            <p:nvPr/>
          </p:nvSpPr>
          <p:spPr>
            <a:xfrm>
              <a:off x="1955880" y="2158920"/>
              <a:ext cx="5410080" cy="4292640"/>
            </a:xfrm>
            <a:prstGeom prst="rect">
              <a:avLst/>
            </a:prstGeom>
            <a:gradFill rotWithShape="0">
              <a:gsLst>
                <a:gs pos="0">
                  <a:srgbClr val="001746"/>
                </a:gs>
                <a:gs pos="50000">
                  <a:srgbClr val="003399"/>
                </a:gs>
                <a:gs pos="100000">
                  <a:srgbClr val="001746"/>
                </a:gs>
              </a:gsLst>
              <a:lin ang="5400000"/>
            </a:gradFill>
            <a:ln w="1908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073240" y="2209680"/>
              <a:ext cx="5175360" cy="419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4083120" y="3779640"/>
              <a:ext cx="1155600" cy="104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1130400" y="6362640"/>
            <a:ext cx="674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74280" y="1628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3 – Effectifs et fréqu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1 (suit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peut trier sur n’importe quelle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084720" y="1413000"/>
          <a:ext cx="1940040" cy="1036440"/>
        </p:xfrm>
        <a:graphic>
          <a:graphicData uri="http://schemas.openxmlformats.org/drawingml/2006/table">
            <a:tbl>
              <a:tblPr/>
              <a:tblGrid>
                <a:gridCol w="971640"/>
                <a:gridCol w="9684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11280" y="3213000"/>
          <a:ext cx="2089080" cy="1046160"/>
        </p:xfrm>
        <a:graphic>
          <a:graphicData uri="http://schemas.openxmlformats.org/drawingml/2006/table">
            <a:tbl>
              <a:tblPr/>
              <a:tblGrid>
                <a:gridCol w="1046160"/>
                <a:gridCol w="1042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urs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3924360" y="3284640"/>
          <a:ext cx="4038480" cy="292392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1 (suite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peut trier sur n’importe quelle vari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84720" y="1413000"/>
          <a:ext cx="1940040" cy="1382760"/>
        </p:xfrm>
        <a:graphic>
          <a:graphicData uri="http://schemas.openxmlformats.org/drawingml/2006/table">
            <a:tbl>
              <a:tblPr/>
              <a:tblGrid>
                <a:gridCol w="971640"/>
                <a:gridCol w="968400"/>
              </a:tblGrid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11280" y="3213000"/>
          <a:ext cx="2089080" cy="1381320"/>
        </p:xfrm>
        <a:graphic>
          <a:graphicData uri="http://schemas.openxmlformats.org/drawingml/2006/table">
            <a:tbl>
              <a:tblPr/>
              <a:tblGrid>
                <a:gridCol w="1046160"/>
                <a:gridCol w="104292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ursi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ui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971640" y="5516640"/>
            <a:ext cx="2305080" cy="792000"/>
            <a:chOff x="971640" y="5516640"/>
            <a:chExt cx="2305080" cy="792000"/>
          </a:xfrm>
        </p:grpSpPr>
        <p:sp>
          <p:nvSpPr>
            <p:cNvPr id="200" name=""/>
            <p:cNvSpPr/>
            <p:nvPr/>
          </p:nvSpPr>
          <p:spPr>
            <a:xfrm>
              <a:off x="971640" y="5516640"/>
              <a:ext cx="2305080" cy="792000"/>
            </a:xfrm>
            <a:prstGeom prst="wedgeRoundRectCallout">
              <a:avLst>
                <a:gd name="adj1" fmla="val -14532"/>
                <a:gd name="adj2" fmla="val -156814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71640" y="5516640"/>
              <a:ext cx="2305080" cy="792000"/>
            </a:xfrm>
            <a:prstGeom prst="wedgeRoundRectCallout">
              <a:avLst>
                <a:gd name="adj1" fmla="val 70865"/>
                <a:gd name="adj2" fmla="val 82064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1640" y="5516640"/>
              <a:ext cx="2305080" cy="792000"/>
            </a:xfrm>
            <a:prstGeom prst="wedgeRoundRectCallout">
              <a:avLst>
                <a:gd name="adj1" fmla="val 165083"/>
                <a:gd name="adj2" fmla="val -392486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es totaux sont identiques..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3924360" y="3284640"/>
          <a:ext cx="4038480" cy="3259080"/>
        </p:xfrm>
        <a:graphic>
          <a:graphicData uri="http://schemas.openxmlformats.org/drawingml/2006/table">
            <a:tbl>
              <a:tblPr/>
              <a:tblGrid>
                <a:gridCol w="2020680"/>
                <a:gridCol w="20178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71280" y="274320"/>
            <a:ext cx="59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emple 2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11280" y="692280"/>
            <a:ext cx="2952720" cy="4824000"/>
            <a:chOff x="611280" y="692280"/>
            <a:chExt cx="2952720" cy="4824000"/>
          </a:xfrm>
        </p:grpSpPr>
        <p:graphicFrame>
          <p:nvGraphicFramePr>
            <p:cNvPr id="206" name=""/>
            <p:cNvGraphicFramePr/>
            <p:nvPr/>
          </p:nvGraphicFramePr>
          <p:xfrm>
            <a:off x="1204560" y="1286640"/>
            <a:ext cx="2359440" cy="4229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04560" y="1286640"/>
                      <a:ext cx="2359440" cy="422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8" name=""/>
            <p:cNvSpPr/>
            <p:nvPr/>
          </p:nvSpPr>
          <p:spPr>
            <a:xfrm rot="5400000">
              <a:off x="2352960" y="46800"/>
              <a:ext cx="197640" cy="2018880"/>
            </a:xfrm>
            <a:custGeom>
              <a:avLst/>
              <a:gdLst>
                <a:gd name="textAreaLeft" fmla="*/ 126360 w 197640"/>
                <a:gd name="textAreaRight" fmla="*/ 198000 w 197640"/>
                <a:gd name="textAreaTop" fmla="*/ 52560 h 2018880"/>
                <a:gd name="textAreaBottom" fmla="*/ 1966320 h 201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34640" y="6922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66960" y="1484640"/>
              <a:ext cx="117720" cy="3965760"/>
            </a:xfrm>
            <a:custGeom>
              <a:avLst/>
              <a:gdLst>
                <a:gd name="textAreaLeft" fmla="*/ 75240 w 117720"/>
                <a:gd name="textAreaRight" fmla="*/ 118080 w 117720"/>
                <a:gd name="textAreaTop" fmla="*/ 103320 h 3965760"/>
                <a:gd name="textAreaBottom" fmla="*/ 3862440 h 396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11280" y="295632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12" name=""/>
          <p:cNvGraphicFramePr/>
          <p:nvPr/>
        </p:nvGraphicFramePr>
        <p:xfrm>
          <a:off x="5580000" y="2349360"/>
          <a:ext cx="2087640" cy="3638520"/>
        </p:xfrm>
        <a:graphic>
          <a:graphicData uri="http://schemas.openxmlformats.org/drawingml/2006/table">
            <a:tbl>
              <a:tblPr/>
              <a:tblGrid>
                <a:gridCol w="927000"/>
                <a:gridCol w="1160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J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696600" y="602136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ola : « J’accus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3860640"/>
            <a:ext cx="719280" cy="576360"/>
          </a:xfrm>
          <a:prstGeom prst="rightArrow">
            <a:avLst>
              <a:gd name="adj1" fmla="val 50000"/>
              <a:gd name="adj2" fmla="val 311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50920" y="1052640"/>
            <a:ext cx="2915640" cy="4447800"/>
            <a:chOff x="250920" y="1052640"/>
            <a:chExt cx="2915640" cy="4447800"/>
          </a:xfrm>
        </p:grpSpPr>
        <p:graphicFrame>
          <p:nvGraphicFramePr>
            <p:cNvPr id="217" name=""/>
            <p:cNvGraphicFramePr/>
            <p:nvPr/>
          </p:nvGraphicFramePr>
          <p:xfrm>
            <a:off x="836640" y="1600560"/>
            <a:ext cx="2329920" cy="3899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6640" y="1600560"/>
                      <a:ext cx="2329920" cy="389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"/>
            <p:cNvSpPr/>
            <p:nvPr/>
          </p:nvSpPr>
          <p:spPr>
            <a:xfrm rot="5400000">
              <a:off x="1977120" y="390960"/>
              <a:ext cx="182160" cy="1994040"/>
            </a:xfrm>
            <a:custGeom>
              <a:avLst/>
              <a:gdLst>
                <a:gd name="textAreaLeft" fmla="*/ 116280 w 182160"/>
                <a:gd name="textAreaRight" fmla="*/ 182160 w 182160"/>
                <a:gd name="textAreaTop" fmla="*/ 51840 h 1994040"/>
                <a:gd name="textAreaBottom" fmla="*/ 1942200 h 19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57360" y="105264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2280" y="1783440"/>
              <a:ext cx="116280" cy="3656520"/>
            </a:xfrm>
            <a:custGeom>
              <a:avLst/>
              <a:gdLst>
                <a:gd name="textAreaLeft" fmla="*/ 74520 w 116280"/>
                <a:gd name="textAreaRight" fmla="*/ 116640 w 116280"/>
                <a:gd name="textAreaTop" fmla="*/ 95040 h 3656520"/>
                <a:gd name="textAreaBottom" fmla="*/ 3561480 h 365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50920" y="306720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912600" y="580536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Zola : « J’accuse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11640" y="3860640"/>
            <a:ext cx="719280" cy="576360"/>
          </a:xfrm>
          <a:prstGeom prst="rightArrow">
            <a:avLst>
              <a:gd name="adj1" fmla="val 50000"/>
              <a:gd name="adj2" fmla="val 311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940360" y="1268280"/>
          <a:ext cx="2232000" cy="5394240"/>
        </p:xfrm>
        <a:graphic>
          <a:graphicData uri="http://schemas.openxmlformats.org/drawingml/2006/table">
            <a:tbl>
              <a:tblPr/>
              <a:tblGrid>
                <a:gridCol w="1444320"/>
                <a:gridCol w="787680"/>
              </a:tblGrid>
              <a:tr h="306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22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minab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min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ou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rè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rita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s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bsol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abla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ablan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abl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lam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.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équences rela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Fréquence relat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portion d’individus dans une modalité par rapport au to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eux s’exprimer ou non en pourcent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979640" y="3573360"/>
          <a:ext cx="5086440" cy="1878120"/>
        </p:xfrm>
        <a:graphic>
          <a:graphicData uri="http://schemas.openxmlformats.org/drawingml/2006/table">
            <a:tbl>
              <a:tblPr/>
              <a:tblGrid>
                <a:gridCol w="1274760"/>
                <a:gridCol w="1271520"/>
                <a:gridCol w="1270080"/>
                <a:gridCol w="12700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ou fréq. absolu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équence rela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réquence relative (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,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  <p:grpSp>
        <p:nvGrpSpPr>
          <p:cNvPr id="229" name=""/>
          <p:cNvGrpSpPr/>
          <p:nvPr/>
        </p:nvGrpSpPr>
        <p:grpSpPr>
          <a:xfrm>
            <a:off x="4138560" y="5734080"/>
            <a:ext cx="4035600" cy="792000"/>
            <a:chOff x="4138560" y="5734080"/>
            <a:chExt cx="4035600" cy="792000"/>
          </a:xfrm>
        </p:grpSpPr>
        <p:sp>
          <p:nvSpPr>
            <p:cNvPr id="230" name=""/>
            <p:cNvSpPr/>
            <p:nvPr/>
          </p:nvSpPr>
          <p:spPr>
            <a:xfrm>
              <a:off x="4138560" y="5734080"/>
              <a:ext cx="865080" cy="792000"/>
            </a:xfrm>
            <a:prstGeom prst="wedgeRoundRectCallout">
              <a:avLst>
                <a:gd name="adj1" fmla="val 88717"/>
                <a:gd name="adj2" fmla="val -141986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08720" y="5734080"/>
              <a:ext cx="865440" cy="792000"/>
            </a:xfrm>
            <a:prstGeom prst="wedgeRoundRectCallout">
              <a:avLst>
                <a:gd name="adj1" fmla="val 88717"/>
                <a:gd name="adj2" fmla="val -141986"/>
                <a:gd name="adj3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0360" y="5734080"/>
              <a:ext cx="4032000" cy="79056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Garamond"/>
                </a:rPr>
                <a:t>C’est la même chose 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uyaux d’orgu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26920" y="3141720"/>
          <a:ext cx="1939680" cy="1004760"/>
        </p:xfrm>
        <a:graphic>
          <a:graphicData uri="http://schemas.openxmlformats.org/drawingml/2006/table">
            <a:tbl>
              <a:tblPr/>
              <a:tblGrid>
                <a:gridCol w="971280"/>
                <a:gridCol w="968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140360" y="2492280"/>
            <a:ext cx="4457520" cy="297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132000" y="3573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5120" y="540540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utôt pour les effectifs (fréquences absolu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"/>
          <p:cNvSpPr/>
          <p:nvPr/>
        </p:nvSpPr>
        <p:spPr>
          <a:xfrm>
            <a:off x="2771640" y="49417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635280" y="3068640"/>
          <a:ext cx="4883400" cy="29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3068640"/>
                    <a:ext cx="4883400" cy="29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39640" y="1844640"/>
          <a:ext cx="2376720" cy="2882880"/>
        </p:xfrm>
        <a:graphic>
          <a:graphicData uri="http://schemas.openxmlformats.org/drawingml/2006/table">
            <a:tbl>
              <a:tblPr/>
              <a:tblGrid>
                <a:gridCol w="1189440"/>
                <a:gridCol w="1187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"/>
          <p:cNvSpPr/>
          <p:nvPr/>
        </p:nvSpPr>
        <p:spPr>
          <a:xfrm>
            <a:off x="2771640" y="494172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1844640"/>
          <a:ext cx="2376720" cy="2882880"/>
        </p:xfrm>
        <a:graphic>
          <a:graphicData uri="http://schemas.openxmlformats.org/drawingml/2006/table">
            <a:tbl>
              <a:tblPr/>
              <a:tblGrid>
                <a:gridCol w="1189440"/>
                <a:gridCol w="11872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ée de 1ère inscrip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3708360" y="3430440"/>
          <a:ext cx="4680000" cy="27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430440"/>
                    <a:ext cx="4680000" cy="27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4392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Polygone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"/>
          <p:cNvSpPr/>
          <p:nvPr/>
        </p:nvSpPr>
        <p:spPr>
          <a:xfrm>
            <a:off x="301320" y="558972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Plutôt pour des valeu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ordonn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présentations graphiqu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Diagrammes en secte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00000" y="2852640"/>
          <a:ext cx="1939680" cy="1004760"/>
        </p:xfrm>
        <a:graphic>
          <a:graphicData uri="http://schemas.openxmlformats.org/drawingml/2006/table">
            <a:tbl>
              <a:tblPr/>
              <a:tblGrid>
                <a:gridCol w="971280"/>
                <a:gridCol w="968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3132000" y="3573360"/>
            <a:ext cx="503280" cy="432000"/>
          </a:xfrm>
          <a:prstGeom prst="rightArrow">
            <a:avLst>
              <a:gd name="adj1" fmla="val 50000"/>
              <a:gd name="adj2" fmla="val 29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140360" y="2997360"/>
          <a:ext cx="4036680" cy="292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997360"/>
                    <a:ext cx="40366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>
            <a:off x="735120" y="540540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lutôt pour les fréquences rel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03640" y="1341360"/>
            <a:ext cx="1800360" cy="1079640"/>
          </a:xfrm>
          <a:prstGeom prst="wedgeRoundRectCallout">
            <a:avLst>
              <a:gd name="adj1" fmla="val -68518"/>
              <a:gd name="adj2" fmla="val -3972"/>
              <a:gd name="adj3" fmla="val 1666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n dit familièrement « camembert 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ermes à reten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676944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Données br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Tableau d’effectifs ou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Effectif ou fréquence absol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Fréquence relativ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Tri à pla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Diagramme en tuyau d’orgu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Diagramme en secteu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aramond"/>
              </a:rPr>
              <a:t>Polygone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1079640" y="181620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onnées bru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Données brute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ableau regroupant les valeurs des différentes variables pour chaque individ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900000" y="3068640"/>
            <a:ext cx="6840720" cy="3306600"/>
            <a:chOff x="900000" y="3068640"/>
            <a:chExt cx="6840720" cy="3306600"/>
          </a:xfrm>
        </p:grpSpPr>
        <p:graphicFrame>
          <p:nvGraphicFramePr>
            <p:cNvPr id="110" name=""/>
            <p:cNvGraphicFramePr/>
            <p:nvPr/>
          </p:nvGraphicFramePr>
          <p:xfrm>
            <a:off x="1692360" y="3789360"/>
            <a:ext cx="6048360" cy="258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92360" y="3789360"/>
                      <a:ext cx="6048360" cy="25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332000" y="4653000"/>
              <a:ext cx="144360" cy="16574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3200 h 1657440"/>
                <a:gd name="textAreaBottom" fmla="*/ 1614240 h 16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123640" y="3068640"/>
              <a:ext cx="5543640" cy="503280"/>
              <a:chOff x="2123640" y="3068640"/>
              <a:chExt cx="5543640" cy="503280"/>
            </a:xfrm>
          </p:grpSpPr>
          <p:sp>
            <p:nvSpPr>
              <p:cNvPr id="114" name=""/>
              <p:cNvSpPr/>
              <p:nvPr/>
            </p:nvSpPr>
            <p:spPr>
              <a:xfrm rot="5400000">
                <a:off x="4824000" y="728280"/>
                <a:ext cx="142920" cy="5543640"/>
              </a:xfrm>
              <a:custGeom>
                <a:avLst/>
                <a:gdLst>
                  <a:gd name="textAreaLeft" fmla="*/ 91440 w 142920"/>
                  <a:gd name="textAreaRight" fmla="*/ 143280 w 142920"/>
                  <a:gd name="textAreaTop" fmla="*/ 144360 h 5543640"/>
                  <a:gd name="textAreaBottom" fmla="*/ 5399280 h 554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327200" y="3068640"/>
                <a:ext cx="114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Garamond"/>
                  </a:rPr>
                  <a:t>variabl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900000" y="499752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utre exemple : tex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340000" y="1197000"/>
            <a:ext cx="3579840" cy="5256360"/>
            <a:chOff x="2340000" y="1197000"/>
            <a:chExt cx="3579840" cy="5256360"/>
          </a:xfrm>
        </p:grpSpPr>
        <p:graphicFrame>
          <p:nvGraphicFramePr>
            <p:cNvPr id="119" name=""/>
            <p:cNvGraphicFramePr/>
            <p:nvPr/>
          </p:nvGraphicFramePr>
          <p:xfrm>
            <a:off x="3059280" y="1844640"/>
            <a:ext cx="2860560" cy="4608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59280" y="1844640"/>
                      <a:ext cx="2860560" cy="460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"/>
            <p:cNvSpPr/>
            <p:nvPr/>
          </p:nvSpPr>
          <p:spPr>
            <a:xfrm rot="5400000">
              <a:off x="4464000" y="369720"/>
              <a:ext cx="215640" cy="244800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63720 h 2448000"/>
                <a:gd name="textAreaBottom" fmla="*/ 2384280 h 244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66840" y="119700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variab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71640" y="2060640"/>
              <a:ext cx="142920" cy="432108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112680 h 4321080"/>
                <a:gd name="textAreaBottom" fmla="*/ 420840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340000" y="374508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tten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29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Confusions possibles ent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individ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valeurs des variab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Exe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’ambiguïté du mot </a:t>
            </a:r>
            <a:r>
              <a:rPr b="0" i="1" lang="fr-FR" sz="2400" spc="-1" strike="noStrike">
                <a:solidFill>
                  <a:srgbClr val="ffffff"/>
                </a:solidFill>
                <a:latin typeface="Garamond"/>
              </a:rPr>
              <a:t>mo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50887" t="1657" r="0" b="52850"/>
          <a:stretch/>
        </p:blipFill>
        <p:spPr>
          <a:xfrm>
            <a:off x="6189840" y="4800600"/>
            <a:ext cx="168408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Attention au mot </a:t>
            </a:r>
            <a:r>
              <a:rPr b="1" i="1" lang="fr-FR" sz="4400" spc="-1" strike="noStrike">
                <a:solidFill>
                  <a:srgbClr val="e5e5ff"/>
                </a:solidFill>
                <a:latin typeface="Garamond"/>
              </a:rPr>
              <a:t>m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1129320" y="1557360"/>
            <a:ext cx="6976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u vois ces souris, tu prends la souris verte et tu lui sou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241640" y="2276640"/>
            <a:ext cx="1252080" cy="4464360"/>
            <a:chOff x="1241640" y="2276640"/>
            <a:chExt cx="1252080" cy="4464360"/>
          </a:xfrm>
        </p:grpSpPr>
        <p:sp>
          <p:nvSpPr>
            <p:cNvPr id="131" name=""/>
            <p:cNvSpPr/>
            <p:nvPr/>
          </p:nvSpPr>
          <p:spPr>
            <a:xfrm>
              <a:off x="1241640" y="227664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3 mots 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32000" y="2806560"/>
              <a:ext cx="9144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4760" y="2276640"/>
            <a:ext cx="1123920" cy="3367080"/>
            <a:chOff x="3884760" y="2276640"/>
            <a:chExt cx="1123920" cy="3367080"/>
          </a:xfrm>
        </p:grpSpPr>
        <p:sp>
          <p:nvSpPr>
            <p:cNvPr id="134" name=""/>
            <p:cNvSpPr/>
            <p:nvPr/>
          </p:nvSpPr>
          <p:spPr>
            <a:xfrm>
              <a:off x="3884760" y="227664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9 mots 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6040" y="2806560"/>
              <a:ext cx="914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400800" y="2276640"/>
            <a:ext cx="1252080" cy="3367080"/>
            <a:chOff x="6400800" y="2276640"/>
            <a:chExt cx="1252080" cy="3367080"/>
          </a:xfrm>
        </p:grpSpPr>
        <p:sp>
          <p:nvSpPr>
            <p:cNvPr id="137" name=""/>
            <p:cNvSpPr/>
            <p:nvPr/>
          </p:nvSpPr>
          <p:spPr>
            <a:xfrm>
              <a:off x="6400800" y="227664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0 mots 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91160" y="2806560"/>
              <a:ext cx="1152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47640" y="2997360"/>
            <a:ext cx="2303640" cy="3310920"/>
            <a:chOff x="1547640" y="2997360"/>
            <a:chExt cx="2303640" cy="3310920"/>
          </a:xfrm>
        </p:grpSpPr>
        <p:sp>
          <p:nvSpPr>
            <p:cNvPr id="140" name=""/>
            <p:cNvSpPr/>
            <p:nvPr/>
          </p:nvSpPr>
          <p:spPr>
            <a:xfrm>
              <a:off x="1835280" y="2997360"/>
              <a:ext cx="19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547640" y="3068280"/>
              <a:ext cx="216072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08000" y="386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908000" y="3860280"/>
              <a:ext cx="194328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1835280" y="3933360"/>
              <a:ext cx="1944720" cy="237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547640" y="3141360"/>
              <a:ext cx="2160720" cy="26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572000" y="3860640"/>
            <a:ext cx="1728720" cy="289080"/>
            <a:chOff x="4572000" y="3860640"/>
            <a:chExt cx="1728720" cy="289080"/>
          </a:xfrm>
        </p:grpSpPr>
        <p:sp>
          <p:nvSpPr>
            <p:cNvPr id="147" name=""/>
            <p:cNvSpPr/>
            <p:nvPr/>
          </p:nvSpPr>
          <p:spPr>
            <a:xfrm>
              <a:off x="4572000" y="386064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3280" y="3860640"/>
              <a:ext cx="165744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1146240" cy="11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Attention au mot </a:t>
            </a:r>
            <a:r>
              <a:rPr b="1" i="1" lang="fr-FR" sz="4400" spc="-1" strike="noStrike">
                <a:solidFill>
                  <a:srgbClr val="e5e5ff"/>
                </a:solidFill>
                <a:latin typeface="Garamond"/>
              </a:rPr>
              <a:t>mo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/>
          <p:nvPr/>
        </p:nvSpPr>
        <p:spPr>
          <a:xfrm>
            <a:off x="1129320" y="1557360"/>
            <a:ext cx="6976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Tu vois ces souris, tu prends la souris verte et tu lui sour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89800" y="2276640"/>
            <a:ext cx="1953000" cy="4464360"/>
            <a:chOff x="1189800" y="2276640"/>
            <a:chExt cx="1953000" cy="4464360"/>
          </a:xfrm>
        </p:grpSpPr>
        <p:sp>
          <p:nvSpPr>
            <p:cNvPr id="153" name=""/>
            <p:cNvSpPr/>
            <p:nvPr/>
          </p:nvSpPr>
          <p:spPr>
            <a:xfrm>
              <a:off x="1189800" y="2276640"/>
              <a:ext cx="195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3 Occurren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2000" y="2806560"/>
              <a:ext cx="9144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880440" y="2276640"/>
            <a:ext cx="1236960" cy="3367080"/>
            <a:chOff x="3880440" y="2276640"/>
            <a:chExt cx="1236960" cy="3367080"/>
          </a:xfrm>
        </p:grpSpPr>
        <p:sp>
          <p:nvSpPr>
            <p:cNvPr id="156" name=""/>
            <p:cNvSpPr/>
            <p:nvPr/>
          </p:nvSpPr>
          <p:spPr>
            <a:xfrm>
              <a:off x="3880440" y="227664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9 For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56040" y="2806560"/>
              <a:ext cx="9144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397560" y="2276640"/>
            <a:ext cx="1469880" cy="3367080"/>
            <a:chOff x="6397560" y="2276640"/>
            <a:chExt cx="1469880" cy="3367080"/>
          </a:xfrm>
        </p:grpSpPr>
        <p:sp>
          <p:nvSpPr>
            <p:cNvPr id="159" name=""/>
            <p:cNvSpPr/>
            <p:nvPr/>
          </p:nvSpPr>
          <p:spPr>
            <a:xfrm>
              <a:off x="6397560" y="2276640"/>
              <a:ext cx="146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00"/>
                  </a:solidFill>
                  <a:latin typeface="Garamond"/>
                </a:rPr>
                <a:t>10 Lemm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91160" y="2806560"/>
              <a:ext cx="11523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t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oi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our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prend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ver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lu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47640" y="2997360"/>
            <a:ext cx="2303640" cy="3310920"/>
            <a:chOff x="1547640" y="2997360"/>
            <a:chExt cx="2303640" cy="3310920"/>
          </a:xfrm>
        </p:grpSpPr>
        <p:sp>
          <p:nvSpPr>
            <p:cNvPr id="162" name=""/>
            <p:cNvSpPr/>
            <p:nvPr/>
          </p:nvSpPr>
          <p:spPr>
            <a:xfrm>
              <a:off x="1835280" y="2997360"/>
              <a:ext cx="194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547640" y="3068280"/>
              <a:ext cx="216072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8000" y="386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08000" y="3860280"/>
              <a:ext cx="1943280" cy="108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835280" y="3933360"/>
              <a:ext cx="1944720" cy="237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547640" y="3141360"/>
              <a:ext cx="2160720" cy="26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72000" y="3860640"/>
            <a:ext cx="1728720" cy="289080"/>
            <a:chOff x="4572000" y="3860640"/>
            <a:chExt cx="1728720" cy="289080"/>
          </a:xfrm>
        </p:grpSpPr>
        <p:sp>
          <p:nvSpPr>
            <p:cNvPr id="169" name=""/>
            <p:cNvSpPr/>
            <p:nvPr/>
          </p:nvSpPr>
          <p:spPr>
            <a:xfrm>
              <a:off x="4572000" y="386064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3280" y="3860640"/>
              <a:ext cx="1657440" cy="289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812000" y="5445000"/>
            <a:ext cx="1146240" cy="1197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42920" y="2205000"/>
            <a:ext cx="7058160" cy="503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bleaux d’effectif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427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 tableau des données brutes est généralement peu lis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 peut en faire une synthèse sous forme de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ableau d’effectif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u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ableau de fréqu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emple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284720" y="4005360"/>
          <a:ext cx="4038120" cy="2185560"/>
        </p:xfrm>
        <a:graphic>
          <a:graphicData uri="http://schemas.openxmlformats.org/drawingml/2006/table">
            <a:tbl>
              <a:tblPr/>
              <a:tblGrid>
                <a:gridCol w="1956600"/>
                <a:gridCol w="208152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ia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 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n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élibatai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vorc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i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u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1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1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MS Serif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16113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 à pl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compte le nombre d’individus dans chaque modalité ou vale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 nombre est l’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effecti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u la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 fréquence absolu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e chaque modalit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’opération s’appelle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tri à pl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mpl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50920" y="1484280"/>
            <a:ext cx="4897080" cy="2808000"/>
            <a:chOff x="250920" y="1484280"/>
            <a:chExt cx="4897080" cy="2808000"/>
          </a:xfrm>
        </p:grpSpPr>
        <p:graphicFrame>
          <p:nvGraphicFramePr>
            <p:cNvPr id="181" name=""/>
            <p:cNvGraphicFramePr/>
            <p:nvPr/>
          </p:nvGraphicFramePr>
          <p:xfrm>
            <a:off x="817920" y="2096280"/>
            <a:ext cx="4330080" cy="2196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17920" y="2096280"/>
                      <a:ext cx="4330080" cy="21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" name=""/>
            <p:cNvSpPr/>
            <p:nvPr/>
          </p:nvSpPr>
          <p:spPr>
            <a:xfrm>
              <a:off x="560160" y="2829600"/>
              <a:ext cx="103320" cy="1407600"/>
            </a:xfrm>
            <a:custGeom>
              <a:avLst/>
              <a:gdLst>
                <a:gd name="textAreaLeft" fmla="*/ 66240 w 103320"/>
                <a:gd name="textAreaRight" fmla="*/ 103680 w 103320"/>
                <a:gd name="textAreaTop" fmla="*/ 36360 h 1407600"/>
                <a:gd name="textAreaBottom" fmla="*/ 1371240 h 140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127160" y="1484280"/>
              <a:ext cx="3968640" cy="427320"/>
              <a:chOff x="1127160" y="1484280"/>
              <a:chExt cx="3968640" cy="427320"/>
            </a:xfrm>
          </p:grpSpPr>
          <p:sp>
            <p:nvSpPr>
              <p:cNvPr id="185" name=""/>
              <p:cNvSpPr/>
              <p:nvPr/>
            </p:nvSpPr>
            <p:spPr>
              <a:xfrm rot="5400000">
                <a:off x="3050640" y="-133200"/>
                <a:ext cx="121320" cy="3968640"/>
              </a:xfrm>
              <a:custGeom>
                <a:avLst/>
                <a:gdLst>
                  <a:gd name="textAreaLeft" fmla="*/ 77400 w 121320"/>
                  <a:gd name="textAreaRight" fmla="*/ 121680 w 121320"/>
                  <a:gd name="textAreaTop" fmla="*/ 103320 h 3968640"/>
                  <a:gd name="textAreaBottom" fmla="*/ 3865320 h 396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677680" y="1484280"/>
                <a:ext cx="114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cc00"/>
                    </a:solidFill>
                    <a:latin typeface="Garamond"/>
                  </a:rPr>
                  <a:t>variable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V="1">
              <a:off x="250920" y="2981520"/>
              <a:ext cx="423720" cy="10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Garamond"/>
                </a:rPr>
                <a:t>individu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88" name=""/>
          <p:cNvGraphicFramePr/>
          <p:nvPr/>
        </p:nvGraphicFramePr>
        <p:xfrm>
          <a:off x="6227640" y="4437000"/>
          <a:ext cx="1811520" cy="1541520"/>
        </p:xfrm>
        <a:graphic>
          <a:graphicData uri="http://schemas.openxmlformats.org/drawingml/2006/table">
            <a:tbl>
              <a:tblPr/>
              <a:tblGrid>
                <a:gridCol w="906480"/>
                <a:gridCol w="90504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x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ffecti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 flipV="1" rot="16200000">
            <a:off x="4895640" y="4688280"/>
            <a:ext cx="1081080" cy="1008000"/>
          </a:xfrm>
          <a:custGeom>
            <a:avLst/>
            <a:gdLst>
              <a:gd name="textAreaLeft" fmla="*/ 360360 w 1081080"/>
              <a:gd name="textAreaRight" fmla="*/ 925920 w 108108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5:44:01Z</dcterms:created>
  <dc:creator>Jean Véronis</dc:creator>
  <dc:description/>
  <dc:language>en-US</dc:language>
  <cp:lastModifiedBy>Jean Véronis</cp:lastModifiedBy>
  <dcterms:modified xsi:type="dcterms:W3CDTF">2004-10-16T15:50:03Z</dcterms:modified>
  <cp:revision>241</cp:revision>
  <dc:subject/>
  <dc:title>Diapositive 1</dc:title>
</cp:coreProperties>
</file>