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souris-debut.wav" ContentType="audio/x-wav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B1E0-676E-45C8-8DB9-D9DC125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E276-0166-46BF-BF3C-A1ECCE3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F776-2D63-4771-81DD-99674D1A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A6AB-5C51-4320-8083-CFDD0EE6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F80-C592-4D3B-B20A-D8AD4E1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3331-D738-4941-A8D1-1637B4F5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12A-D6EF-4AF6-B924-67EB26C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A81-9678-4951-9110-5B61D6E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DE79-8189-4DDE-A6BF-6592DAE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5D0-EFB7-4322-B48F-4EE8F0B6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5AA7-D98A-47C4-96AC-CB44514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814D-C202-4093-BC93-5C3028EA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58B5-AE7C-4BF3-801B-6E50942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BA2-318A-40EA-AB67-3A79915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14F0-0364-4BC0-81F6-E2B63AF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F400-2020-4037-88CD-CABE23F1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6FF9-8481-4DE6-9B0D-AAC72ED0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64C3-0635-4342-B630-D637C09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0EFF-2F9F-4B65-AF25-C66DEDBD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5879-B50F-43D5-9E3F-B0E06AF2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8958-05D1-4556-80DF-156C517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A495-0B37-495E-9F53-34CBBBA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C6F8-C380-4073-98CF-A4A9B1C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BE2C-C893-4394-85E9-65CA5AD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FBF-9A2E-4086-B5EB-5629858EF1F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8744040" y="6308640"/>
            <a:ext cx="2919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414-F310-485D-B4A8-A27FC7F1076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souris-debu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 L14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itiation aux statistiqu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55880" y="2158920"/>
            <a:ext cx="5410080" cy="4292640"/>
            <a:chOff x="1955880" y="2158920"/>
            <a:chExt cx="5410080" cy="4292640"/>
          </a:xfrm>
        </p:grpSpPr>
        <p:sp>
          <p:nvSpPr>
            <p:cNvPr id="102" name=""/>
            <p:cNvSpPr/>
            <p:nvPr/>
          </p:nvSpPr>
          <p:spPr>
            <a:xfrm>
              <a:off x="1955880" y="2158920"/>
              <a:ext cx="5410080" cy="4292640"/>
            </a:xfrm>
            <a:prstGeom prst="rect">
              <a:avLst/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5400000"/>
            </a:gradFill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073240" y="2209680"/>
              <a:ext cx="5175360" cy="41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083120" y="3779640"/>
              <a:ext cx="115560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130400" y="6362640"/>
            <a:ext cx="674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4280" y="162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3 – Effectifs et fré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 (suit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trier sur n’importe quelle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084720" y="1413000"/>
          <a:ext cx="1940040" cy="1036440"/>
        </p:xfrm>
        <a:graphic>
          <a:graphicData uri="http://schemas.openxmlformats.org/drawingml/2006/table">
            <a:tbl>
              <a:tblPr/>
              <a:tblGrid>
                <a:gridCol w="971640"/>
                <a:gridCol w="9684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11280" y="3213000"/>
          <a:ext cx="2089080" cy="1046160"/>
        </p:xfrm>
        <a:graphic>
          <a:graphicData uri="http://schemas.openxmlformats.org/drawingml/2006/table">
            <a:tbl>
              <a:tblPr/>
              <a:tblGrid>
                <a:gridCol w="1046160"/>
                <a:gridCol w="1042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urs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924360" y="3284640"/>
          <a:ext cx="4038480" cy="292392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 (suit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trier sur n’importe quelle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84720" y="1413000"/>
          <a:ext cx="1940040" cy="1382760"/>
        </p:xfrm>
        <a:graphic>
          <a:graphicData uri="http://schemas.openxmlformats.org/drawingml/2006/table">
            <a:tbl>
              <a:tblPr/>
              <a:tblGrid>
                <a:gridCol w="971640"/>
                <a:gridCol w="9684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280" y="3213000"/>
          <a:ext cx="2089080" cy="1381320"/>
        </p:xfrm>
        <a:graphic>
          <a:graphicData uri="http://schemas.openxmlformats.org/drawingml/2006/table">
            <a:tbl>
              <a:tblPr/>
              <a:tblGrid>
                <a:gridCol w="1046160"/>
                <a:gridCol w="10429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urs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971640" y="5516640"/>
            <a:ext cx="2305080" cy="792000"/>
            <a:chOff x="971640" y="5516640"/>
            <a:chExt cx="2305080" cy="792000"/>
          </a:xfrm>
        </p:grpSpPr>
        <p:sp>
          <p:nvSpPr>
            <p:cNvPr id="200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-14532"/>
                <a:gd name="adj2" fmla="val -156814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70865"/>
                <a:gd name="adj2" fmla="val 82064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165083"/>
                <a:gd name="adj2" fmla="val -3924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s totaux sont identiques..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3924360" y="3284640"/>
          <a:ext cx="4038480" cy="32590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emple 2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1280" y="692280"/>
            <a:ext cx="2952720" cy="4824000"/>
            <a:chOff x="611280" y="692280"/>
            <a:chExt cx="2952720" cy="4824000"/>
          </a:xfrm>
        </p:grpSpPr>
        <p:graphicFrame>
          <p:nvGraphicFramePr>
            <p:cNvPr id="206" name=""/>
            <p:cNvGraphicFramePr/>
            <p:nvPr/>
          </p:nvGraphicFramePr>
          <p:xfrm>
            <a:off x="1204560" y="1286640"/>
            <a:ext cx="2359440" cy="4229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04560" y="1286640"/>
                      <a:ext cx="2359440" cy="422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 rot="5400000">
              <a:off x="2352960" y="46800"/>
              <a:ext cx="197640" cy="201888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52560 h 2018880"/>
                <a:gd name="textAreaBottom" fmla="*/ 1966320 h 20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4640" y="6922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6960" y="1484640"/>
              <a:ext cx="117720" cy="3965760"/>
            </a:xfrm>
            <a:custGeom>
              <a:avLst/>
              <a:gdLst>
                <a:gd name="textAreaLeft" fmla="*/ 75240 w 117720"/>
                <a:gd name="textAreaRight" fmla="*/ 118080 w 117720"/>
                <a:gd name="textAreaTop" fmla="*/ 103320 h 3965760"/>
                <a:gd name="textAreaBottom" fmla="*/ 3862440 h 396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11280" y="29563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2" name=""/>
          <p:cNvGraphicFramePr/>
          <p:nvPr/>
        </p:nvGraphicFramePr>
        <p:xfrm>
          <a:off x="5580000" y="2349360"/>
          <a:ext cx="2087640" cy="3638520"/>
        </p:xfrm>
        <a:graphic>
          <a:graphicData uri="http://schemas.openxmlformats.org/drawingml/2006/table">
            <a:tbl>
              <a:tblPr/>
              <a:tblGrid>
                <a:gridCol w="927000"/>
                <a:gridCol w="1160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96600" y="602136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ola : « J’acc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386064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50920" y="1052640"/>
            <a:ext cx="2915640" cy="4447800"/>
            <a:chOff x="250920" y="1052640"/>
            <a:chExt cx="2915640" cy="4447800"/>
          </a:xfrm>
        </p:grpSpPr>
        <p:graphicFrame>
          <p:nvGraphicFramePr>
            <p:cNvPr id="217" name=""/>
            <p:cNvGraphicFramePr/>
            <p:nvPr/>
          </p:nvGraphicFramePr>
          <p:xfrm>
            <a:off x="836640" y="1600560"/>
            <a:ext cx="2329920" cy="3899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6640" y="1600560"/>
                      <a:ext cx="2329920" cy="389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 rot="5400000">
              <a:off x="1977120" y="390960"/>
              <a:ext cx="182160" cy="1994040"/>
            </a:xfrm>
            <a:custGeom>
              <a:avLst/>
              <a:gdLst>
                <a:gd name="textAreaLeft" fmla="*/ 116280 w 182160"/>
                <a:gd name="textAreaRight" fmla="*/ 182160 w 18216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57360" y="105264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280" y="1783440"/>
              <a:ext cx="116280" cy="3656520"/>
            </a:xfrm>
            <a:custGeom>
              <a:avLst/>
              <a:gdLst>
                <a:gd name="textAreaLeft" fmla="*/ 74520 w 116280"/>
                <a:gd name="textAreaRight" fmla="*/ 116640 w 116280"/>
                <a:gd name="textAreaTop" fmla="*/ 95040 h 3656520"/>
                <a:gd name="textAreaBottom" fmla="*/ 3561480 h 365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0920" y="306720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912600" y="580536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ola : « J’acc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386064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940360" y="1268280"/>
          <a:ext cx="2232000" cy="5394240"/>
        </p:xfrm>
        <a:graphic>
          <a:graphicData uri="http://schemas.openxmlformats.org/drawingml/2006/table">
            <a:tbl>
              <a:tblPr/>
              <a:tblGrid>
                <a:gridCol w="1444320"/>
                <a:gridCol w="787680"/>
              </a:tblGrid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2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min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m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u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rè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rit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s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so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a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lam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équences rel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Fréquence rela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portion d’individus dans une modalité par rapport au to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ux s’exprimer ou non en pourcent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979640" y="3573360"/>
          <a:ext cx="5086440" cy="1878120"/>
        </p:xfrm>
        <a:graphic>
          <a:graphicData uri="http://schemas.openxmlformats.org/drawingml/2006/table">
            <a:tbl>
              <a:tblPr/>
              <a:tblGrid>
                <a:gridCol w="1274760"/>
                <a:gridCol w="1271520"/>
                <a:gridCol w="1270080"/>
                <a:gridCol w="12700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ou fréq. absolu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équence rel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équence relative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4138560" y="5734080"/>
            <a:ext cx="4035600" cy="792000"/>
            <a:chOff x="4138560" y="5734080"/>
            <a:chExt cx="4035600" cy="792000"/>
          </a:xfrm>
        </p:grpSpPr>
        <p:sp>
          <p:nvSpPr>
            <p:cNvPr id="230" name=""/>
            <p:cNvSpPr/>
            <p:nvPr/>
          </p:nvSpPr>
          <p:spPr>
            <a:xfrm>
              <a:off x="4138560" y="5734080"/>
              <a:ext cx="865080" cy="792000"/>
            </a:xfrm>
            <a:prstGeom prst="wedgeRoundRectCallout">
              <a:avLst>
                <a:gd name="adj1" fmla="val 88717"/>
                <a:gd name="adj2" fmla="val -1419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08720" y="5734080"/>
              <a:ext cx="865440" cy="792000"/>
            </a:xfrm>
            <a:prstGeom prst="wedgeRoundRectCallout">
              <a:avLst>
                <a:gd name="adj1" fmla="val 88717"/>
                <a:gd name="adj2" fmla="val -1419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0360" y="5734080"/>
              <a:ext cx="4032000" cy="790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C’est la même chose 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uyaux d’or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26920" y="3141720"/>
          <a:ext cx="1939680" cy="1004760"/>
        </p:xfrm>
        <a:graphic>
          <a:graphicData uri="http://schemas.openxmlformats.org/drawingml/2006/table">
            <a:tbl>
              <a:tblPr/>
              <a:tblGrid>
                <a:gridCol w="971280"/>
                <a:gridCol w="968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4457520" cy="297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32000" y="3573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5120" y="54054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utôt pour les effectifs (fréquences absolu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49417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635280" y="3068640"/>
          <a:ext cx="4883400" cy="29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068640"/>
                    <a:ext cx="488340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9640" y="1844640"/>
          <a:ext cx="2376720" cy="2882880"/>
        </p:xfrm>
        <a:graphic>
          <a:graphicData uri="http://schemas.openxmlformats.org/drawingml/2006/table">
            <a:tbl>
              <a:tblPr/>
              <a:tblGrid>
                <a:gridCol w="1189440"/>
                <a:gridCol w="1187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49417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844640"/>
          <a:ext cx="2376720" cy="2882880"/>
        </p:xfrm>
        <a:graphic>
          <a:graphicData uri="http://schemas.openxmlformats.org/drawingml/2006/table">
            <a:tbl>
              <a:tblPr/>
              <a:tblGrid>
                <a:gridCol w="1189440"/>
                <a:gridCol w="1187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08360" y="3430440"/>
          <a:ext cx="4680000" cy="27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430440"/>
                    <a:ext cx="4680000" cy="27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4392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Polygone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301320" y="55897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lutôt pour des valeu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r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Diagrammes en secte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00000" y="2852640"/>
          <a:ext cx="1939680" cy="1004760"/>
        </p:xfrm>
        <a:graphic>
          <a:graphicData uri="http://schemas.openxmlformats.org/drawingml/2006/table">
            <a:tbl>
              <a:tblPr/>
              <a:tblGrid>
                <a:gridCol w="971280"/>
                <a:gridCol w="968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132000" y="3573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140360" y="2997360"/>
          <a:ext cx="4036680" cy="29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997360"/>
                    <a:ext cx="40366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735120" y="54054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utôt pour les fréquences rel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03640" y="1341360"/>
            <a:ext cx="1800360" cy="1079640"/>
          </a:xfrm>
          <a:prstGeom prst="wedgeRoundRectCallout">
            <a:avLst>
              <a:gd name="adj1" fmla="val -68518"/>
              <a:gd name="adj2" fmla="val -397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n dit familièrement « camembert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es à reten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6769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onnées br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ableau d’effectifs ou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Effectif ou fréquence abso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Fréquence rel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ri à pl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iagramme en tuyau d’or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iagramme en sect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Polygone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1079640" y="181620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nnées br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Données brut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au regroupant les valeurs des différentes variables pour chaque indivi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00000" y="3068640"/>
            <a:ext cx="6840720" cy="3306600"/>
            <a:chOff x="900000" y="3068640"/>
            <a:chExt cx="6840720" cy="3306600"/>
          </a:xfrm>
        </p:grpSpPr>
        <p:graphicFrame>
          <p:nvGraphicFramePr>
            <p:cNvPr id="110" name=""/>
            <p:cNvGraphicFramePr/>
            <p:nvPr/>
          </p:nvGraphicFramePr>
          <p:xfrm>
            <a:off x="1692360" y="3789360"/>
            <a:ext cx="6048360" cy="258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3789360"/>
                      <a:ext cx="6048360" cy="25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332000" y="4653000"/>
              <a:ext cx="144360" cy="16574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123640" y="3068640"/>
              <a:ext cx="5543640" cy="503280"/>
              <a:chOff x="2123640" y="3068640"/>
              <a:chExt cx="5543640" cy="503280"/>
            </a:xfrm>
          </p:grpSpPr>
          <p:sp>
            <p:nvSpPr>
              <p:cNvPr id="114" name=""/>
              <p:cNvSpPr/>
              <p:nvPr/>
            </p:nvSpPr>
            <p:spPr>
              <a:xfrm rot="5400000">
                <a:off x="4824000" y="728280"/>
                <a:ext cx="142920" cy="554364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44360 h 5543640"/>
                  <a:gd name="textAreaBottom" fmla="*/ 5399280 h 554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27200" y="3068640"/>
                <a:ext cx="114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Garamond"/>
                  </a:rPr>
                  <a:t>variab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900000" y="49975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re exemple : tex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40000" y="1197000"/>
            <a:ext cx="3579840" cy="5256360"/>
            <a:chOff x="2340000" y="1197000"/>
            <a:chExt cx="3579840" cy="5256360"/>
          </a:xfrm>
        </p:grpSpPr>
        <p:graphicFrame>
          <p:nvGraphicFramePr>
            <p:cNvPr id="119" name=""/>
            <p:cNvGraphicFramePr/>
            <p:nvPr/>
          </p:nvGraphicFramePr>
          <p:xfrm>
            <a:off x="3059280" y="1844640"/>
            <a:ext cx="2860560" cy="4608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1844640"/>
                      <a:ext cx="286056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 rot="5400000">
              <a:off x="4464000" y="369720"/>
              <a:ext cx="215640" cy="2448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6840" y="119700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1640" y="2060640"/>
              <a:ext cx="142920" cy="432108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340000" y="374508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tten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29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Confusions possibles ent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indivi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valeurs des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Ex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’ambiguïté du mot </a:t>
            </a:r>
            <a:r>
              <a:rPr b="0" i="1" lang="fr-FR" sz="2400" spc="-1" strike="noStrike">
                <a:solidFill>
                  <a:srgbClr val="ffffff"/>
                </a:solidFill>
                <a:latin typeface="Garamond"/>
              </a:rPr>
              <a:t>m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50887" t="1657" r="0" b="52850"/>
          <a:stretch/>
        </p:blipFill>
        <p:spPr>
          <a:xfrm>
            <a:off x="6189840" y="4800600"/>
            <a:ext cx="1684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Attention au mot </a:t>
            </a:r>
            <a:r>
              <a:rPr b="1" i="1" lang="fr-FR" sz="4400" spc="-1" strike="noStrike">
                <a:solidFill>
                  <a:srgbClr val="e5e5ff"/>
                </a:solidFill>
                <a:latin typeface="Garamond"/>
              </a:rPr>
              <a:t>m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1129320" y="1557360"/>
            <a:ext cx="6976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u vois ces souris, tu prends la souris verte et tu lui sou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41640" y="2276640"/>
            <a:ext cx="1252080" cy="4464360"/>
            <a:chOff x="1241640" y="2276640"/>
            <a:chExt cx="1252080" cy="4464360"/>
          </a:xfrm>
        </p:grpSpPr>
        <p:sp>
          <p:nvSpPr>
            <p:cNvPr id="131" name=""/>
            <p:cNvSpPr/>
            <p:nvPr/>
          </p:nvSpPr>
          <p:spPr>
            <a:xfrm>
              <a:off x="1241640" y="227664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3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32000" y="2806560"/>
              <a:ext cx="9144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4760" y="2276640"/>
            <a:ext cx="1123920" cy="3367080"/>
            <a:chOff x="3884760" y="2276640"/>
            <a:chExt cx="1123920" cy="3367080"/>
          </a:xfrm>
        </p:grpSpPr>
        <p:sp>
          <p:nvSpPr>
            <p:cNvPr id="134" name=""/>
            <p:cNvSpPr/>
            <p:nvPr/>
          </p:nvSpPr>
          <p:spPr>
            <a:xfrm>
              <a:off x="3884760" y="227664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9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6040" y="2806560"/>
              <a:ext cx="914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400800" y="2276640"/>
            <a:ext cx="1252080" cy="3367080"/>
            <a:chOff x="6400800" y="2276640"/>
            <a:chExt cx="1252080" cy="3367080"/>
          </a:xfrm>
        </p:grpSpPr>
        <p:sp>
          <p:nvSpPr>
            <p:cNvPr id="137" name=""/>
            <p:cNvSpPr/>
            <p:nvPr/>
          </p:nvSpPr>
          <p:spPr>
            <a:xfrm>
              <a:off x="6400800" y="227664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0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91160" y="2806560"/>
              <a:ext cx="1152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47640" y="2997360"/>
            <a:ext cx="2303640" cy="3310920"/>
            <a:chOff x="1547640" y="2997360"/>
            <a:chExt cx="2303640" cy="3310920"/>
          </a:xfrm>
        </p:grpSpPr>
        <p:sp>
          <p:nvSpPr>
            <p:cNvPr id="140" name=""/>
            <p:cNvSpPr/>
            <p:nvPr/>
          </p:nvSpPr>
          <p:spPr>
            <a:xfrm>
              <a:off x="1835280" y="299736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547640" y="3068280"/>
              <a:ext cx="216072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386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908000" y="3860280"/>
              <a:ext cx="194328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835280" y="3933360"/>
              <a:ext cx="1944720" cy="237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547640" y="3141360"/>
              <a:ext cx="2160720" cy="26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572000" y="3860640"/>
            <a:ext cx="1728720" cy="289080"/>
            <a:chOff x="4572000" y="3860640"/>
            <a:chExt cx="1728720" cy="289080"/>
          </a:xfrm>
        </p:grpSpPr>
        <p:sp>
          <p:nvSpPr>
            <p:cNvPr id="147" name=""/>
            <p:cNvSpPr/>
            <p:nvPr/>
          </p:nvSpPr>
          <p:spPr>
            <a:xfrm>
              <a:off x="4572000" y="38606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3280" y="3860640"/>
              <a:ext cx="165744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114624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Attention au mot </a:t>
            </a:r>
            <a:r>
              <a:rPr b="1" i="1" lang="fr-FR" sz="4400" spc="-1" strike="noStrike">
                <a:solidFill>
                  <a:srgbClr val="e5e5ff"/>
                </a:solidFill>
                <a:latin typeface="Garamond"/>
              </a:rPr>
              <a:t>m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1129320" y="1557360"/>
            <a:ext cx="6976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u vois ces souris, tu prends la souris verte et tu lui sou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89800" y="2276640"/>
            <a:ext cx="1953000" cy="4464360"/>
            <a:chOff x="1189800" y="2276640"/>
            <a:chExt cx="1953000" cy="4464360"/>
          </a:xfrm>
        </p:grpSpPr>
        <p:sp>
          <p:nvSpPr>
            <p:cNvPr id="153" name=""/>
            <p:cNvSpPr/>
            <p:nvPr/>
          </p:nvSpPr>
          <p:spPr>
            <a:xfrm>
              <a:off x="1189800" y="227664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3 Occurren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2806560"/>
              <a:ext cx="9144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80440" y="2276640"/>
            <a:ext cx="1236960" cy="3367080"/>
            <a:chOff x="3880440" y="2276640"/>
            <a:chExt cx="1236960" cy="3367080"/>
          </a:xfrm>
        </p:grpSpPr>
        <p:sp>
          <p:nvSpPr>
            <p:cNvPr id="156" name=""/>
            <p:cNvSpPr/>
            <p:nvPr/>
          </p:nvSpPr>
          <p:spPr>
            <a:xfrm>
              <a:off x="3880440" y="227664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9 For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56040" y="2806560"/>
              <a:ext cx="914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97560" y="2276640"/>
            <a:ext cx="1469880" cy="3367080"/>
            <a:chOff x="6397560" y="2276640"/>
            <a:chExt cx="1469880" cy="3367080"/>
          </a:xfrm>
        </p:grpSpPr>
        <p:sp>
          <p:nvSpPr>
            <p:cNvPr id="159" name=""/>
            <p:cNvSpPr/>
            <p:nvPr/>
          </p:nvSpPr>
          <p:spPr>
            <a:xfrm>
              <a:off x="6397560" y="227664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0 Lem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91160" y="2806560"/>
              <a:ext cx="1152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47640" y="2997360"/>
            <a:ext cx="2303640" cy="3310920"/>
            <a:chOff x="1547640" y="2997360"/>
            <a:chExt cx="2303640" cy="3310920"/>
          </a:xfrm>
        </p:grpSpPr>
        <p:sp>
          <p:nvSpPr>
            <p:cNvPr id="162" name=""/>
            <p:cNvSpPr/>
            <p:nvPr/>
          </p:nvSpPr>
          <p:spPr>
            <a:xfrm>
              <a:off x="1835280" y="299736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47640" y="3068280"/>
              <a:ext cx="216072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8000" y="386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08000" y="3860280"/>
              <a:ext cx="194328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835280" y="3933360"/>
              <a:ext cx="1944720" cy="237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547640" y="3141360"/>
              <a:ext cx="2160720" cy="26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0" y="3860640"/>
            <a:ext cx="1728720" cy="289080"/>
            <a:chOff x="4572000" y="3860640"/>
            <a:chExt cx="1728720" cy="289080"/>
          </a:xfrm>
        </p:grpSpPr>
        <p:sp>
          <p:nvSpPr>
            <p:cNvPr id="169" name=""/>
            <p:cNvSpPr/>
            <p:nvPr/>
          </p:nvSpPr>
          <p:spPr>
            <a:xfrm>
              <a:off x="4572000" y="38606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3280" y="3860640"/>
              <a:ext cx="165744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1146240" cy="1197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42920" y="2205000"/>
            <a:ext cx="7058160" cy="50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aux d’effectif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427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 tableau des données brutes est généralement peu li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en faire une synthèse sous forme de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ableau d’effectif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u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ableau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empl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284720" y="4005360"/>
          <a:ext cx="4038120" cy="2185560"/>
        </p:xfrm>
        <a:graphic>
          <a:graphicData uri="http://schemas.openxmlformats.org/drawingml/2006/table">
            <a:tbl>
              <a:tblPr/>
              <a:tblGrid>
                <a:gridCol w="1956600"/>
                <a:gridCol w="208152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éliba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orc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u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161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à pl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compte le nombre d’individus dans chaque modalité ou val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 nombre est l’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effecti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u la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 fréquence absol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 chaque modalit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’opération s’appelle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ri à pl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50920" y="1484280"/>
            <a:ext cx="4897080" cy="2808000"/>
            <a:chOff x="250920" y="1484280"/>
            <a:chExt cx="4897080" cy="2808000"/>
          </a:xfrm>
        </p:grpSpPr>
        <p:graphicFrame>
          <p:nvGraphicFramePr>
            <p:cNvPr id="181" name=""/>
            <p:cNvGraphicFramePr/>
            <p:nvPr/>
          </p:nvGraphicFramePr>
          <p:xfrm>
            <a:off x="817920" y="2096280"/>
            <a:ext cx="4330080" cy="2196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920" y="2096280"/>
                      <a:ext cx="4330080" cy="21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560160" y="2829600"/>
              <a:ext cx="103320" cy="1407600"/>
            </a:xfrm>
            <a:custGeom>
              <a:avLst/>
              <a:gdLst>
                <a:gd name="textAreaLeft" fmla="*/ 66240 w 103320"/>
                <a:gd name="textAreaRight" fmla="*/ 103680 w 103320"/>
                <a:gd name="textAreaTop" fmla="*/ 36360 h 1407600"/>
                <a:gd name="textAreaBottom" fmla="*/ 1371240 h 14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127160" y="1484280"/>
              <a:ext cx="3968640" cy="427320"/>
              <a:chOff x="1127160" y="1484280"/>
              <a:chExt cx="3968640" cy="427320"/>
            </a:xfrm>
          </p:grpSpPr>
          <p:sp>
            <p:nvSpPr>
              <p:cNvPr id="185" name=""/>
              <p:cNvSpPr/>
              <p:nvPr/>
            </p:nvSpPr>
            <p:spPr>
              <a:xfrm rot="5400000">
                <a:off x="3050640" y="-133200"/>
                <a:ext cx="121320" cy="3968640"/>
              </a:xfrm>
              <a:custGeom>
                <a:avLst/>
                <a:gdLst>
                  <a:gd name="textAreaLeft" fmla="*/ 77400 w 121320"/>
                  <a:gd name="textAreaRight" fmla="*/ 121680 w 121320"/>
                  <a:gd name="textAreaTop" fmla="*/ 103320 h 3968640"/>
                  <a:gd name="textAreaBottom" fmla="*/ 3865320 h 39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77680" y="1484280"/>
                <a:ext cx="114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Garamond"/>
                  </a:rPr>
                  <a:t>variab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V="1">
              <a:off x="250920" y="29815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8" name=""/>
          <p:cNvGraphicFramePr/>
          <p:nvPr/>
        </p:nvGraphicFramePr>
        <p:xfrm>
          <a:off x="6227640" y="4437000"/>
          <a:ext cx="1811520" cy="1541520"/>
        </p:xfrm>
        <a:graphic>
          <a:graphicData uri="http://schemas.openxmlformats.org/drawingml/2006/table">
            <a:tbl>
              <a:tblPr/>
              <a:tblGrid>
                <a:gridCol w="906480"/>
                <a:gridCol w="905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 flipV="1" rot="16200000">
            <a:off x="4895640" y="4688280"/>
            <a:ext cx="1081080" cy="1008000"/>
          </a:xfrm>
          <a:custGeom>
            <a:avLst/>
            <a:gdLst>
              <a:gd name="textAreaLeft" fmla="*/ 360360 w 1081080"/>
              <a:gd name="textAreaRight" fmla="*/ 925920 w 108108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5:44:01Z</dcterms:created>
  <dc:creator>Jean Véronis</dc:creator>
  <dc:description/>
  <dc:language>en-US</dc:language>
  <cp:lastModifiedBy>Jean Véronis</cp:lastModifiedBy>
  <dcterms:modified xsi:type="dcterms:W3CDTF">2004-10-16T15:50:03Z</dcterms:modified>
  <cp:revision>241</cp:revision>
  <dc:subject/>
  <dc:title>Diapositive 1</dc:title>
</cp:coreProperties>
</file>