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7D4-68AB-41BF-A69A-D4FABC9B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F76-5D6E-41F8-BE51-E56022B7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102-2A36-4856-8A3A-0480B832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6A2-9E86-4A2C-BB5D-A35A21A0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EAA-A4E7-4C97-ABA9-BB8B08B4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20E-A541-46B2-8B07-9062AA1A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2FA-2A47-4B23-87D3-C1E6387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089-FBF8-4010-93CF-C64E4134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236-9043-43D0-8CC5-47BD351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858-CBF5-46C5-83DE-5A9AE22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25A-F257-420D-85CE-83FE873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612-D384-4A14-859E-2B02693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AFF2-7594-4656-9E30-577C4ACD49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10:12:07Z</dcterms:modified>
  <cp:revision>25</cp:revision>
  <dc:subject/>
  <dc:title>슬라이드 1</dc:title>
</cp:coreProperties>
</file>