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0F3-1F26-47E3-A970-200871BC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CBD-7FEC-46D7-AEE2-AE3FEAE2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869-EC19-4ED0-B5E3-7304AF0A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99E-7519-4D56-8EEA-81006720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198-B06A-4113-A7B5-B9DE0E9A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A18-D97A-4478-B6F7-D2FC1C6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42D-6535-4F0F-BFBA-C2F5B376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7B1-9A1E-4C91-BA13-9D530BF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265-0C88-440B-82BF-7312F1CE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1B6-6D19-4578-B551-72C105B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511-0BCB-4DCA-9DFC-17796D0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1BA-4066-481A-A063-942E1BED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B907-AF1A-44C6-BA50-1CC1EEE8CB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10:12:07Z</dcterms:modified>
  <cp:revision>25</cp:revision>
  <dc:subject/>
  <dc:title>슬라이드 1</dc:title>
</cp:coreProperties>
</file>