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23D-CC0E-48CB-BF17-FF8F4292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A51-9180-40F7-877F-C698D22B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205-65D6-42D5-9451-C01575EC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F58-2FD6-4221-BDC1-A3707201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704-1A4C-4151-BF84-95F203C6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DBC-F6E8-487A-A9D5-4A9B52B3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6E4-DD0B-4793-94FD-F51580DE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ED2-8B5B-422D-9835-388CB7DF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34D-A6FC-43A7-BAEA-1254EDDE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B0B-C37E-4A2A-8DED-A190092C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08D-C8C2-4DC8-8DE9-E553632C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EF97-8101-44CC-88B2-B001A708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5E08-8944-46ED-BD79-18DF9DD10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05000"/>
            <a:ext cx="914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59400" y="460440"/>
            <a:ext cx="19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ursive standard"/>
              </a:rPr>
              <a:t>Rém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060640"/>
            <a:ext cx="647640" cy="649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02600" y="2903400"/>
            <a:ext cx="268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ursive standard"/>
              </a:rPr>
              <a:t>naiss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2060640"/>
            <a:ext cx="648000" cy="64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94160" y="2060640"/>
            <a:ext cx="648000" cy="649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53440" y="2060640"/>
            <a:ext cx="647640" cy="64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6680" y="2924280"/>
            <a:ext cx="12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ursive standard"/>
              </a:rPr>
              <a:t>1 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06800" y="2852640"/>
            <a:ext cx="160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sive standard"/>
              </a:rPr>
              <a:t>2 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66080" y="2852640"/>
            <a:ext cx="16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ursive standard"/>
              </a:rPr>
              <a:t>3 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2200" y="3645000"/>
            <a:ext cx="1873440" cy="2952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2920" y="3645000"/>
            <a:ext cx="1873080" cy="29527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3645000"/>
            <a:ext cx="1873440" cy="29527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02560" y="3645000"/>
            <a:ext cx="1873080" cy="2952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9:57:30Z</dcterms:created>
  <dc:creator>Pons Y Moll</dc:creator>
  <dc:description/>
  <dc:language>en-US</dc:language>
  <cp:lastModifiedBy>Pons Y Moll</cp:lastModifiedBy>
  <dcterms:modified xsi:type="dcterms:W3CDTF">2011-01-10T22:13:36Z</dcterms:modified>
  <cp:revision>5</cp:revision>
  <dc:subject/>
  <dc:title>Diapositive 1</dc:title>
</cp:coreProperties>
</file>