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94A-F5A2-4527-83AF-2547A030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D36-0C69-43A7-9D94-FC37F32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3AE-7980-413A-9AFF-A9C5C70A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947-00EE-4023-B4C3-A616E4F4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078-F421-4AAC-9488-D4B0006B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78A-716D-441B-ACF5-448C1ECB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572-BF82-474D-94DA-455009C2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256-A4B8-42D2-BEE9-6076039F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D35-FEAA-49CC-AB53-DABB32F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C54-232C-4B99-B22D-B9983C90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B07-557C-4CAD-AC99-847E1B4D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C73-7ABC-4544-843F-C05CCE6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57BA-DFF4-40F6-8D7C-05EBA9B08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5000"/>
            <a:ext cx="914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9400" y="46044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ursive standard"/>
              </a:rPr>
              <a:t>Rém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060640"/>
            <a:ext cx="647640" cy="64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02600" y="29034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ursive standard"/>
              </a:rPr>
              <a:t>na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2060640"/>
            <a:ext cx="648000" cy="64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4160" y="2060640"/>
            <a:ext cx="648000" cy="649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53440" y="206064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6680" y="292428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ursive standard"/>
              </a:rPr>
              <a:t>1 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06800" y="2852640"/>
            <a:ext cx="16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sive standard"/>
              </a:rPr>
              <a:t>2 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66080" y="2852640"/>
            <a:ext cx="16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ursive standard"/>
              </a:rPr>
              <a:t>3 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2200" y="3645000"/>
            <a:ext cx="1873440" cy="2952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2920" y="3645000"/>
            <a:ext cx="1873080" cy="2952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3645000"/>
            <a:ext cx="1873440" cy="2952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2560" y="3645000"/>
            <a:ext cx="1873080" cy="295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9:57:30Z</dcterms:created>
  <dc:creator>Pons Y Moll</dc:creator>
  <dc:description/>
  <dc:language>en-US</dc:language>
  <cp:lastModifiedBy>Pons Y Moll</cp:lastModifiedBy>
  <dcterms:modified xsi:type="dcterms:W3CDTF">2011-01-10T22:13:36Z</dcterms:modified>
  <cp:revision>5</cp:revision>
  <dc:subject/>
  <dc:title>Diapositive 1</dc:title>
</cp:coreProperties>
</file>