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Misc_Fall.wav" ContentType="audio/x-wav"/>
  <Override PartName="/ppt/media/image11.wmf" ContentType="image/x-wmf"/>
  <Override PartName="/ppt/media/StartUp.wav" ContentType="audio/x-wav"/>
  <Override PartName="/ppt/media/image10.png" ContentType="image/png"/>
  <Override PartName="/ppt/media/image1.jpeg" ContentType="image/jpeg"/>
  <Override PartName="/ppt/media/tada.wav" ContentType="audio/x-wav"/>
  <Override PartName="/ppt/media/Misc_UFO_anim.wav" ContentType="audio/x-wav"/>
  <Override PartName="/ppt/media/hammer.wav" ContentType="audio/x-wav"/>
  <Override PartName="/ppt/media/image13.png" ContentType="image/png"/>
  <Override PartName="/ppt/media/Disconnect.wav" ContentType="audio/x-wav"/>
  <Override PartName="/ppt/media/0003%20-%20%D9%88%D9%86%D8%AF%D9%88%D8%B2%20%D8%A7%D9%84%D9%88%D8%B5%D9%88%D9%84.wav" ContentType="audio/x-wav"/>
  <Override PartName="/ppt/media/type.wav" ContentType="audio/x-wav"/>
  <Override PartName="/ppt/media/image15.png" ContentType="image/png"/>
  <Override PartName="/ppt/media/Cowbell.wav" ContentType="audio/x-wav"/>
  <Override PartName="/ppt/media/image14.png" ContentType="image/png"/>
  <Override PartName="/ppt/media/SOUND735.WAV" ContentType="audio/x-wav"/>
  <Override PartName="/ppt/media/image4.png" ContentType="image/png"/>
  <Override PartName="/ppt/media/recycle.wav" ContentType="audio/x-wav"/>
  <Override PartName="/ppt/media/0068%20-%20applause.wav" ContentType="audio/x-wav"/>
  <Override PartName="/ppt/media/image16.png" ContentType="image/png"/>
  <Override PartName="/ppt/media/image9.wmf" ContentType="image/x-wmf"/>
  <Override PartName="/ppt/media/wind.wav" ContentType="audio/x-wav"/>
  <Override PartName="/ppt/media/image6.gif" ContentType="image/gif"/>
  <Override PartName="/ppt/media/chimes.wav" ContentType="audio/x-wav"/>
  <Override PartName="/ppt/media/image2.wmf" ContentType="image/x-wmf"/>
  <Override PartName="/ppt/media/image7.jpeg" ContentType="image/jpeg"/>
  <Override PartName="/ppt/media/image3.jpeg" ContentType="image/jpeg"/>
  <Override PartName="/ppt/media/voltage.wav" ContentType="audio/x-wav"/>
  <Override PartName="/ppt/media/image8.gif" ContentType="image/gif"/>
  <Override PartName="/ppt/media/Whrlwind.wav" ContentType="audio/x-wav"/>
  <Override PartName="/ppt/media/breeze.wav" ContentType="audio/x-wav"/>
  <Override PartName="/ppt/media/notify.wav" ContentType="audio/x-wav"/>
  <Override PartName="/ppt/media/applause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869-B85C-42EC-B8C2-989826AF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463-E23F-4454-9623-5D4AE51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8D0-9820-46A7-9D9B-F8D9D236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5B3-BF8E-43D2-B57D-EE3926BD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B76-08EA-42BF-B90F-122755C3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913-51B2-4C2B-AE83-50ACDD93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E7D-607F-4073-9099-BFD2D0CD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EAA-BC7C-40B0-905F-EEAD1CF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5B7-5A9F-43E8-B97B-8C308E90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7DD-C969-4FA7-AC40-12390627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31E-CA8B-412F-97DF-B25965B0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C8A-9939-40F9-B219-6789E52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59B-094C-4164-954C-1AD3A9577F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0068%20-%20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audio" Target="../media/0003%20-%20&#1608;&#1606;&#1583;&#1608;&#1586;%20&#1575;&#1604;&#1608;&#1589;&#1608;&#1604;.wav"/><Relationship Id="rId9" Type="http://schemas.openxmlformats.org/officeDocument/2006/relationships/audio" Target="../media/recycle.wav"/><Relationship Id="rId10" Type="http://schemas.openxmlformats.org/officeDocument/2006/relationships/audio" Target="../media/type.wav"/><Relationship Id="rId11" Type="http://schemas.openxmlformats.org/officeDocument/2006/relationships/audio" Target="../media/wind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Whrl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hammer.wav"/><Relationship Id="rId4" Type="http://schemas.openxmlformats.org/officeDocument/2006/relationships/audio" Target="../media/breeze.wav"/><Relationship Id="rId5" Type="http://schemas.openxmlformats.org/officeDocument/2006/relationships/audio" Target="../media/StartUp.wav"/><Relationship Id="rId6" Type="http://schemas.openxmlformats.org/officeDocument/2006/relationships/audio" Target="../media/notify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hammer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Misc_UFO_anim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Misc_Fall.wav"/><Relationship Id="rId5" Type="http://schemas.openxmlformats.org/officeDocument/2006/relationships/audio" Target="../media/SOUND735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chimes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3%20-%20%D9%88%D9%86%D8%AF%D9%88%D8%B2%20%D8%A7%D9%84%D9%88%D8%B5%D9%88%D9%8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SCHOOLMA"/>
          <p:cNvPicPr/>
          <p:nvPr/>
        </p:nvPicPr>
        <p:blipFill>
          <a:blip r:embed="rId1"/>
          <a:stretch/>
        </p:blipFill>
        <p:spPr>
          <a:xfrm>
            <a:off x="1300320" y="1676520"/>
            <a:ext cx="662436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057400" y="3581280"/>
            <a:ext cx="48769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يوجد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زهريات، في كل منها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وردات. ما عدد الوردات في هذه الزهريات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........... ور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7643880" y="560880"/>
            <a:ext cx="801000" cy="1224000"/>
            <a:chOff x="7643880" y="560880"/>
            <a:chExt cx="801000" cy="1224000"/>
          </a:xfrm>
        </p:grpSpPr>
        <p:pic>
          <p:nvPicPr>
            <p:cNvPr id="98" name="Picture 3" descr="pencil_banner"/>
            <p:cNvPicPr/>
            <p:nvPr/>
          </p:nvPicPr>
          <p:blipFill>
            <a:blip r:embed="rId2"/>
            <a:stretch/>
          </p:blipFill>
          <p:spPr>
            <a:xfrm rot="1208400">
              <a:off x="7827480" y="600480"/>
              <a:ext cx="43344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 rot="1492200">
              <a:off x="7781760" y="7376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مخطط انسيابي: رابط 54"/>
          <p:cNvSpPr/>
          <p:nvPr/>
        </p:nvSpPr>
        <p:spPr>
          <a:xfrm>
            <a:off x="4038480" y="5181480"/>
            <a:ext cx="1371600" cy="762120"/>
          </a:xfrm>
          <a:prstGeom prst="flowChartConnector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5796000" y="765000"/>
            <a:ext cx="2232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استكش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6" descr="BCKLC243"/>
          <p:cNvPicPr/>
          <p:nvPr/>
        </p:nvPicPr>
        <p:blipFill>
          <a:blip r:embed="rId3"/>
          <a:stretch/>
        </p:blipFill>
        <p:spPr>
          <a:xfrm>
            <a:off x="1116000" y="2171880"/>
            <a:ext cx="7201080" cy="1485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979640" y="2351160"/>
            <a:ext cx="53989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ِذا كانَ ثَمَنُ الزَّهْرَةِ الْواحِدَةِ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رِيالاتٍ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فَكَمْ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َبْلُغُ ثَمَنُ الزَّهْرَتَيْن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2843280" y="4437000"/>
            <a:ext cx="3405240" cy="1359000"/>
          </a:xfrm>
          <a:prstGeom prst="diamond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............. رِيالات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ookworm"/>
          <p:cNvPicPr/>
          <p:nvPr/>
        </p:nvPicPr>
        <p:blipFill>
          <a:blip r:embed="rId4"/>
          <a:stretch/>
        </p:blipFill>
        <p:spPr>
          <a:xfrm>
            <a:off x="990720" y="189000"/>
            <a:ext cx="2361960" cy="1716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4419720" y="4724280"/>
            <a:ext cx="685800" cy="581400"/>
          </a:xfrm>
          <a:prstGeom prst="rect">
            <a:avLst/>
          </a:prstGeom>
          <a:solidFill>
            <a:srgbClr val="bc79ff"/>
          </a:solidFill>
          <a:ln w="76320">
            <a:solidFill>
              <a:srgbClr val="c50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7" descr="RedAnimatedRose.gif"/>
          <p:cNvPicPr/>
          <p:nvPr/>
        </p:nvPicPr>
        <p:blipFill>
          <a:blip r:embed="rId5"/>
          <a:stretch/>
        </p:blipFill>
        <p:spPr>
          <a:xfrm rot="20339400">
            <a:off x="609552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صورة 8" descr="RedAnimatedRose.gif"/>
          <p:cNvPicPr/>
          <p:nvPr/>
        </p:nvPicPr>
        <p:blipFill>
          <a:blip r:embed="rId6"/>
          <a:stretch/>
        </p:blipFill>
        <p:spPr>
          <a:xfrm rot="21266400">
            <a:off x="6373440" y="4051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صورة 9" descr="RedAnimatedRose.gif"/>
          <p:cNvPicPr/>
          <p:nvPr/>
        </p:nvPicPr>
        <p:blipFill>
          <a:blip r:embed="rId7"/>
          <a:stretch/>
        </p:blipFill>
        <p:spPr>
          <a:xfrm rot="19575600">
            <a:off x="5864400" y="4343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8" name="0003%20-%20%D9%88%D9%86%D8%AF%D9%88%D8%B2%20%D8%A7%D9%84%D9%88%D8%B5%D9%88%D9%84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BUS615"/>
          <p:cNvPicPr/>
          <p:nvPr/>
        </p:nvPicPr>
        <p:blipFill>
          <a:blip r:embed="rId1"/>
          <a:stretch/>
        </p:blipFill>
        <p:spPr>
          <a:xfrm>
            <a:off x="1547640" y="1268280"/>
            <a:ext cx="7596360" cy="54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67f00"/>
            </a:outerShdw>
          </a:effectLst>
        </p:spPr>
      </p:pic>
      <p:sp>
        <p:nvSpPr>
          <p:cNvPr id="55" name="Rectangle 8"/>
          <p:cNvSpPr/>
          <p:nvPr/>
        </p:nvSpPr>
        <p:spPr>
          <a:xfrm>
            <a:off x="5825520" y="5589720"/>
            <a:ext cx="182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ff"/>
                </a:solidFill>
                <a:latin typeface="Calibri"/>
              </a:rPr>
              <a:t>نشا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21048600">
            <a:off x="2052720" y="1877760"/>
            <a:ext cx="5545080" cy="2305080"/>
          </a:xfrm>
          <a:prstGeom prst="bracePair">
            <a:avLst>
              <a:gd name="adj" fmla="val 5944"/>
            </a:avLst>
          </a:prstGeom>
          <a:solidFill>
            <a:srgbClr val="ffc269"/>
          </a:solidFill>
          <a:ln w="9360">
            <a:solidFill>
              <a:srgbClr val="eeece1"/>
            </a:solidFill>
            <a:miter/>
          </a:ln>
          <a:effectLst>
            <a:outerShdw dist="107932" dir="13500000" blurRad="0" rotWithShape="0">
              <a:srgbClr val="7445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ضع بطاقات أسعار على أشياء ف</a:t>
            </a:r>
            <a:r>
              <a:rPr b="0" lang="ar-SA" sz="2800" spc="-1" strike="noStrike">
                <a:solidFill>
                  <a:srgbClr val="1f497d"/>
                </a:solidFill>
                <a:latin typeface="Calibri"/>
              </a:rPr>
              <a:t>ي</a:t>
            </a: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المنزل 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وأعط طفلك أوراقاً نقدية لتمث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دور البائع والمشترى وأعطله فرصةً للتدر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على عد النقود التي يعيدها إ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البائع عند شرائه الأصناف المختل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23"/>
          <p:cNvPicPr/>
          <p:nvPr/>
        </p:nvPicPr>
        <p:blipFill>
          <a:blip r:embed="rId2"/>
          <a:stretch/>
        </p:blipFill>
        <p:spPr>
          <a:xfrm>
            <a:off x="609480" y="457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rl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6372360" y="404640"/>
            <a:ext cx="1857240" cy="18939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2060"/>
                </a:solidFill>
                <a:latin typeface="Calibri"/>
              </a:rPr>
              <a:t>أسرت</a:t>
            </a:r>
            <a:r>
              <a:rPr b="0" lang="ar-SA" sz="2800" spc="-1" strike="noStrike">
                <a:solidFill>
                  <a:srgbClr val="002060"/>
                </a:solidFill>
                <a:latin typeface="Calibri"/>
              </a:rPr>
              <a:t>ي</a:t>
            </a:r>
            <a:r>
              <a:rPr b="0" lang="ar-EG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2060"/>
                </a:solidFill>
                <a:latin typeface="Calibri"/>
              </a:rPr>
              <a:t>العز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1258920" y="1484280"/>
            <a:ext cx="4248000" cy="187344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أبدأ اليوم دراسة الفصل التاس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 وأتعلم فيه عن النقود و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 وهذا نشاط يمكن 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أ</a:t>
            </a: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ن ننفذه مع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BCKMC022"/>
          <p:cNvPicPr/>
          <p:nvPr/>
        </p:nvPicPr>
        <p:blipFill>
          <a:blip r:embed="rId1"/>
          <a:stretch/>
        </p:blipFill>
        <p:spPr>
          <a:xfrm rot="21315000">
            <a:off x="539280" y="4005000"/>
            <a:ext cx="3957840" cy="2369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5"/>
          <p:cNvSpPr/>
          <p:nvPr/>
        </p:nvSpPr>
        <p:spPr>
          <a:xfrm rot="21093600">
            <a:off x="1278720" y="4676040"/>
            <a:ext cx="24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1f497d"/>
                </a:solidFill>
                <a:latin typeface="Calibri"/>
              </a:rPr>
              <a:t>مع وافر الحب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1f497d"/>
                </a:solidFill>
                <a:latin typeface="Calibri"/>
              </a:rPr>
              <a:t> ابنكم /ابنتكم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3%20-%20%D9%88%D9%86%D8%AF%D9%88%D8%B2%20%D8%A7%D9%84%D9%88%D8%B5%D9%88%D9%84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BUS615"/>
          <p:cNvPicPr/>
          <p:nvPr/>
        </p:nvPicPr>
        <p:blipFill>
          <a:blip r:embed="rId1"/>
          <a:stretch/>
        </p:blipFill>
        <p:spPr>
          <a:xfrm>
            <a:off x="1547640" y="1268280"/>
            <a:ext cx="75963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069960" y="5661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Calibri"/>
              </a:rPr>
              <a:t>التهيئ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owl_1"/>
          <p:cNvPicPr/>
          <p:nvPr/>
        </p:nvPicPr>
        <p:blipFill>
          <a:blip r:embed="rId2"/>
          <a:stretch/>
        </p:blipFill>
        <p:spPr>
          <a:xfrm rot="21346200">
            <a:off x="2247480" y="1526760"/>
            <a:ext cx="2284560" cy="31942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SCHOOLMA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38200" y="2470320"/>
            <a:ext cx="5904000" cy="1331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494800" y="2973240"/>
            <a:ext cx="34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أَعُدُّ بِالْخَمْسَات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430200" y="4054320"/>
            <a:ext cx="5327640" cy="594000"/>
          </a:xfrm>
          <a:prstGeom prst="flowChartTermina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........ ، ........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.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2"/>
          <p:cNvGrpSpPr/>
          <p:nvPr/>
        </p:nvGrpSpPr>
        <p:grpSpPr>
          <a:xfrm>
            <a:off x="7500960" y="2955960"/>
            <a:ext cx="546480" cy="1176120"/>
            <a:chOff x="7500960" y="2955960"/>
            <a:chExt cx="546480" cy="1176120"/>
          </a:xfrm>
        </p:grpSpPr>
        <p:pic>
          <p:nvPicPr>
            <p:cNvPr id="70" name="Picture 3" descr="pencil_banner"/>
            <p:cNvPicPr/>
            <p:nvPr/>
          </p:nvPicPr>
          <p:blipFill>
            <a:blip r:embed="rId2"/>
            <a:stretch/>
          </p:blipFill>
          <p:spPr>
            <a:xfrm rot="21316200">
              <a:off x="7567560" y="2971440"/>
              <a:ext cx="433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4"/>
            <p:cNvSpPr/>
            <p:nvPr/>
          </p:nvSpPr>
          <p:spPr>
            <a:xfrm>
              <a:off x="7500960" y="31208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20"/>
          <p:cNvSpPr/>
          <p:nvPr/>
        </p:nvSpPr>
        <p:spPr>
          <a:xfrm>
            <a:off x="353520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262080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170640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94464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sc_UFO_ani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SCHOOLMA"/>
          <p:cNvPicPr/>
          <p:nvPr/>
        </p:nvPicPr>
        <p:blipFill>
          <a:blip r:embed="rId1"/>
          <a:stretch/>
        </p:blipFill>
        <p:spPr>
          <a:xfrm>
            <a:off x="2127240" y="2438280"/>
            <a:ext cx="5545080" cy="1260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3127320" y="2871720"/>
            <a:ext cx="33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أَعُدُّ بِالْعَشَرَات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1192320" y="4022640"/>
            <a:ext cx="4895640" cy="593640"/>
          </a:xfrm>
          <a:prstGeom prst="flowChartTerminator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20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........ ،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7729560" y="2838600"/>
            <a:ext cx="546480" cy="1176120"/>
            <a:chOff x="7729560" y="2838600"/>
            <a:chExt cx="546480" cy="1176120"/>
          </a:xfrm>
        </p:grpSpPr>
        <p:pic>
          <p:nvPicPr>
            <p:cNvPr id="80" name="Picture 3" descr="pencil_banner"/>
            <p:cNvPicPr/>
            <p:nvPr/>
          </p:nvPicPr>
          <p:blipFill>
            <a:blip r:embed="rId2"/>
            <a:stretch/>
          </p:blipFill>
          <p:spPr>
            <a:xfrm rot="21316200">
              <a:off x="7796160" y="2854080"/>
              <a:ext cx="433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7"/>
            <p:cNvSpPr/>
            <p:nvPr/>
          </p:nvSpPr>
          <p:spPr>
            <a:xfrm>
              <a:off x="7729560" y="30034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AutoShape 19"/>
          <p:cNvSpPr/>
          <p:nvPr/>
        </p:nvSpPr>
        <p:spPr>
          <a:xfrm>
            <a:off x="3611520" y="4073400"/>
            <a:ext cx="457200" cy="457200"/>
          </a:xfrm>
          <a:prstGeom prst="flowChartConnector">
            <a:avLst/>
          </a:prstGeom>
          <a:solidFill>
            <a:srgbClr val="eeece1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4"/>
          <p:cNvSpPr/>
          <p:nvPr/>
        </p:nvSpPr>
        <p:spPr>
          <a:xfrm>
            <a:off x="2773440" y="4073400"/>
            <a:ext cx="457200" cy="457200"/>
          </a:xfrm>
          <a:prstGeom prst="flowChartConnector">
            <a:avLst/>
          </a:prstGeom>
          <a:solidFill>
            <a:srgbClr val="eeece1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1859040" y="4073400"/>
            <a:ext cx="457200" cy="457200"/>
          </a:xfrm>
          <a:prstGeom prst="flowChartConnector">
            <a:avLst/>
          </a:prstGeom>
          <a:solidFill>
            <a:srgbClr val="eeece1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sc_F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7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CHOOLMA"/>
          <p:cNvPicPr/>
          <p:nvPr/>
        </p:nvPicPr>
        <p:blipFill>
          <a:blip r:embed="rId1"/>
          <a:stretch/>
        </p:blipFill>
        <p:spPr>
          <a:xfrm>
            <a:off x="3200400" y="838080"/>
            <a:ext cx="5029200" cy="4321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809880" y="2492280"/>
            <a:ext cx="373392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أحوط الوَرَقةِ النَّقْديَّةِ مِنْ فِئَةِ 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 ريالٍ، وَأَضَعُ</a:t>
            </a: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خطاً تحت الوَرَقةِ النَّقْديَّةِ</a:t>
            </a: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 من فئة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 ريالات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7699320" y="1432080"/>
            <a:ext cx="546480" cy="1176120"/>
            <a:chOff x="7699320" y="1432080"/>
            <a:chExt cx="546480" cy="1176120"/>
          </a:xfrm>
        </p:grpSpPr>
        <p:pic>
          <p:nvPicPr>
            <p:cNvPr id="88" name="Picture 3" descr="pencil_banner"/>
            <p:cNvPicPr/>
            <p:nvPr/>
          </p:nvPicPr>
          <p:blipFill>
            <a:blip r:embed="rId2"/>
            <a:stretch/>
          </p:blipFill>
          <p:spPr>
            <a:xfrm rot="21316200">
              <a:off x="7765920" y="1447560"/>
              <a:ext cx="433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/>
            <p:cNvSpPr/>
            <p:nvPr/>
          </p:nvSpPr>
          <p:spPr>
            <a:xfrm>
              <a:off x="7699320" y="15969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678440" cy="3809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91" name="رابط مستقيم 4"/>
          <p:cNvSpPr/>
          <p:nvPr/>
        </p:nvSpPr>
        <p:spPr>
          <a:xfrm>
            <a:off x="4876920" y="3200400"/>
            <a:ext cx="205740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خطط انسيابي: رابط 5"/>
          <p:cNvSpPr/>
          <p:nvPr/>
        </p:nvSpPr>
        <p:spPr>
          <a:xfrm>
            <a:off x="7162920" y="1676520"/>
            <a:ext cx="1295280" cy="1636560"/>
          </a:xfrm>
          <a:prstGeom prst="flowChartConnector">
            <a:avLst/>
          </a:prstGeom>
          <a:noFill/>
          <a:ln w="572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خطط انسيابي: رابط 54"/>
          <p:cNvSpPr/>
          <p:nvPr/>
        </p:nvSpPr>
        <p:spPr>
          <a:xfrm>
            <a:off x="5334120" y="3352680"/>
            <a:ext cx="1523880" cy="1828800"/>
          </a:xfrm>
          <a:prstGeom prst="flowChartConnector">
            <a:avLst/>
          </a:prstGeom>
          <a:noFill/>
          <a:ln w="572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رابط مستقيم 9"/>
          <p:cNvSpPr/>
          <p:nvPr/>
        </p:nvSpPr>
        <p:spPr>
          <a:xfrm>
            <a:off x="2590920" y="5027760"/>
            <a:ext cx="205740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3%20-%20%D9%88%D9%86%D8%AF%D9%88%D8%B2%20%D8%A7%D9%84%D9%88%D8%B5%D9%88%D9%84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49:17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3T15:44:44Z</dcterms:modified>
  <cp:revision>34</cp:revision>
  <dc:subject>مقدمة و تهيئة الفصل الثالث عشر</dc:subject>
  <dc:title>رياضيات 1ب - الفصل الثالث عشر</dc:title>
</cp:coreProperties>
</file>